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D19E-D854-4F3A-AF35-2CD1BF016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5 | Annual Per Capita Health Spending, by Age and Sex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8C3A-5446-4554-8295-B4A2B024A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073-09C1-4738-B1BA-DE8C0FCF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530-10CB-4A9B-A18D-F8AFFB8A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A03-698B-4EBE-8FB2-D2303C76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903-8B9E-4B1E-85E5-A59A73CD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A0B-2B99-4373-93D0-5312679C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375-3A3A-4987-888F-2F706050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AB5-CFD8-42A8-A382-750996C9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86C-25BF-4F34-86A7-47DC20F5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CFA-A70F-410F-A109-FA15E6BC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880-951F-4AF3-A922-AEDFE219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AE3-4B17-4579-9B96-43C89EFE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F23-AAEF-4EC4-9503-A04EFA87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8369-E258-4B8F-B20D-D760166EC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5 Female health spending is higher than for males from childbirth through reproductive years and in early years of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00=annual per capita health spending of males 18-24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5 Female health spending is higher than for males from childbirth through reproductive years and in early years of retirement</dc:description>
  <dc:language>en-US</dc:language>
  <cp:lastModifiedBy>Jia Yao</cp:lastModifiedBy>
  <dcterms:modified xsi:type="dcterms:W3CDTF">2013-09-06T15:13:1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5 Female health spending is higher than for males from childbirth through reproductive years and in early years of retirement</vt:lpwstr>
  </property>
</Properties>
</file>