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6FC-73E7-4958-80E7-E5F087E8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360-CE84-46FC-8022-73FF5C6F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DC2E-79E6-407C-B480-8FDBA60E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4231-C6F2-4618-9B82-1A5DC38E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8A54-5229-4832-99DF-621F8C90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C12-06DD-4D86-9DAB-29466197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4A00-A463-4D29-A1CA-79453F2F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A43-C61A-4633-A0D8-30AB4CF0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7FDA-9A0F-47FD-97BE-74B47B1E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E9A4-A350-4E68-849E-41AB024B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EAAA-FCFD-4591-9051-EC95DDB3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B25B-734A-4D86-958C-38872AD5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EB69-A953-4947-918D-989AA9DCF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7058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9Z</dcterms:modified>
  <cp:revision>31</cp:revision>
  <dc:subject/>
  <dc:title>PowerPoint Presentation</dc:title>
</cp:coreProperties>
</file>