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21AC0-7529-46B1-BB7C-76866B23BF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4b | Per Capita Health Spending, by Major Age Category, 1977-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B7EEA-14B8-4D65-8B57-F04448F103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4F3F-9861-420B-B106-AD75C4E39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F7B0-69DF-478A-8262-525E7ED46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C636-741F-42CF-BF14-49E45B392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E50C-EED7-4AB4-9220-64BF83DC4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4595-A76E-49AD-B21D-7AA3D7AA4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27A6-F39E-4F10-827A-CEBA5DE5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8C88-8CB3-4E08-BD58-38B714718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1FE6-1F0B-4772-91D0-B70496163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A7DF-1596-476D-8182-A82F2CD4C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C3CD-4191-4E51-871E-7A19636D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8641-6945-44DB-82EE-236289EF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AE3A-4C8C-41C8-ACA7-52EFF87A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B5769-321C-42C7-93E3-DE277EF8E6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4b The rate of increase in per capita health spending declined for all age groups between 1977 and 2004, though at varying ra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6002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mpound annual growth rate in per capita health spen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4b The rate of increase in per capita health spending declined for all age groups between 1977 and 2004, though at varying rates</dc:description>
  <dc:language>en-US</dc:language>
  <cp:lastModifiedBy>Jia Yao</cp:lastModifiedBy>
  <dcterms:modified xsi:type="dcterms:W3CDTF">2013-09-06T15:13:12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4b The rate of increase in per capita health spending declined for all age groups between 1977 and 2004, though at varying rates</vt:lpwstr>
  </property>
</Properties>
</file>