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65BF-E1EA-45BB-9143-16792F841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5AE8-447C-4A15-8171-67577BB11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882C-6780-47A9-B565-DA161A652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3906-A49A-4B73-8DB6-D853AC9C5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80F5-6590-474E-BABC-FE31E1EF3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B455-8261-4F1E-8730-932FB85EE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8597-734D-442F-B9DC-79D4F7DAC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094F-00AD-4286-9EC9-3EB3C31A9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6428-896B-4632-BB5A-3BB30FA52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D013-F5CD-4E80-88DF-5A05CFC5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27B2-94D5-4E88-9C3E-E68C0B10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DB07-93D8-4D6E-BBCD-9BACFDDC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2A3BE-AB6D-44A9-81B0-FC7461FBAD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90440"/>
            <a:ext cx="91440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4:58Z</dcterms:modified>
  <cp:revision>31</cp:revision>
  <dc:subject/>
  <dc:title>PowerPoint Presentation</dc:title>
</cp:coreProperties>
</file>