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A71E-51EC-42E6-9CD1-DDA6FA8BB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4b | Per Capita Health Spending, by Major Age Category, 1977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33D8-8965-455D-8DE6-0A5E01664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D2F-048D-4741-A93A-23EF79B8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44F-9884-4D20-9F6C-271FB6B2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C48-ABCF-4C55-830B-75F5F5EE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AEB-782E-4477-9F9B-E37317A8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BEB8-7AAA-4C19-8C69-ACF90DA4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FC04-EFE3-4CEE-98D0-CE24074A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0A0-10D9-4C7D-9773-21A7080C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DBF-9965-4A83-8329-B135DDCE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53CD-C547-4EC1-875E-90134783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055-EFF9-449F-895E-0A025E6C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4CA9-C772-4FE1-8B1E-35AB5FCE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E1D-F966-4DA6-9336-25E90E0A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B57E-9BAE-4CC1-865F-AB57FCB58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4b The rate of increase in per capita health spending declined for all age groups between 1977 and 2004, though at varying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600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per capita health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4b The rate of increase in per capita health spending declined for all age groups between 1977 and 2004, though at varying rates</dc:description>
  <dc:language>en-US</dc:language>
  <cp:lastModifiedBy>Jia Yao</cp:lastModifiedBy>
  <dcterms:modified xsi:type="dcterms:W3CDTF">2013-09-06T15:13:12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4b The rate of increase in per capita health spending declined for all age groups between 1977 and 2004, though at varying rates</vt:lpwstr>
  </property>
</Properties>
</file>