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2D1C-214A-4943-8728-A61B3A67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F7A6-6FB6-454A-A0A0-BA3B42B2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49E7-669F-4398-B79E-81DFF7CC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BD57-E032-48B5-BB20-9BA42EA3B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CC63-B00A-425A-8075-2DFBFC5B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1426-1238-4E5B-9095-EDACC4BD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955E-579C-4A9A-B7D5-B1B602CE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0EAD-E0EF-4D31-8DB9-939630AF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49B0-9D98-41BA-A419-0FDA8EB5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B2B1-AAB0-4EE4-BCAE-0354DE0D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7060-D0C9-421D-A3AC-2A0BDF0F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2C52-54CB-4A83-849A-2ADB7ADD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E358-7E6F-46B6-98F1-F99560210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20840"/>
            <a:ext cx="9144000" cy="60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3Z</dcterms:modified>
  <cp:revision>30</cp:revision>
  <dc:subject/>
  <dc:title>PowerPoint Presentation</dc:title>
</cp:coreProperties>
</file>