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EC48-4F47-41B3-B508-810061DCF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b | Distribution of Net Burden of Health-Related Expendtures by Family Income Decile, by Type of Payment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4C39-AD52-4AE1-B5E6-26DAD1C9A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5A4-5B33-4632-87B4-65340C8D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36A-3961-41DF-818D-AD0B88F2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A8D-D46A-4456-A2F0-E639F52D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7F4-974D-41CE-A7C9-76C24388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7AF-9F9E-4A08-A8A2-445F403A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6FF-CB78-4A9E-A7F1-C999E44B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92E-F895-45A2-BC58-3264D268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EE8-1F4E-48CD-8D92-8544B0FE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9B2-B9AB-4D9F-AAF2-A0656537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494-2428-4671-A4D1-E45B0D61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709-BDB4-4513-84E2-1A33C440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27A-E70A-4910-9762-BFA3D519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C6AC-A65D-48FF-BA13-AC5F72344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2b | Even for the lowest-income families, health-related taxes account for more than one fifth of the net burden of paying for health  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72960" y="1197000"/>
            <a:ext cx="833148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76280" y="53593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12800" y="17413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net burden of health spending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60520" y="579132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b | Even for the lowest-income families, health-related taxes account for more than one fifth of the net burden of paying for health  care.</dc:description>
  <dc:language>en-US</dc:language>
  <cp:lastModifiedBy>Jia Yao</cp:lastModifiedBy>
  <dcterms:modified xsi:type="dcterms:W3CDTF">2013-09-06T15:12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b | Even for the lowest-income families, health-related taxes account for more than one fifth of the net burden of paying for health  care.</vt:lpwstr>
  </property>
</Properties>
</file>