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6F19-2A59-45AB-8661-94EDDFE2F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2a | Net Burden of Health-Related Expendtures by Family Income Decile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B5D5-BF43-43AD-9E5B-3ACA34C49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24E-5F4F-4222-96E0-FB763075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D90-C5A7-4357-AD99-E9806A5B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A4B-4D4A-4CD4-B8ED-880C6261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4EF-8337-47BA-B1E1-F59A6C51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7E5-2B1F-41CD-BE5C-EEB04D9B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548-3BEB-4229-B715-966BBB8D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BDC-EB37-44F2-8F95-796CCBA4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44C6-F38B-46A8-A69A-85F3BBD9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E43-8AAC-4CCF-A6F1-02723209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542-704C-41CC-98E6-E4FD408E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3386-0BF5-4BD1-B3F3-C471FF2A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8FC-3E77-4BA9-94C2-5A749D15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0D80-A4AB-4C48-8B47-C6432CD9C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2.2a | The net burden of health-related expenditures is about 2-1/2 times as large for very low income families compared to very high income famil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386000" y="417816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me decile (1=10 percent of households with lowest incom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62120" y="1371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pending as percentage of family income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84200" y="457992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The family burden of health expenditures includes out-of-pocket spending; premium payments for group and nongroup health insurance (including the employer share) and Medicare Parts B and D; and health-related taxes, including payroll taxes for Medicare Part A and the family’s share of other taxes used to pay for publicly-financed health care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84200" y="5815080"/>
            <a:ext cx="84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elden TM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Using Adjusted MEPS Data to Study Incidence of Health Care Finance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y for Healthcare Research and Quality. http://www.ahrq.gov/about/annualconf09/selden/selden.ppt (accessed July 16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2a | The net burden of health-related expenditures is about 2-1/2 times as large for very low income families compared to very high income families.</dc:description>
  <dc:language>en-US</dc:language>
  <cp:lastModifiedBy>Jia Yao</cp:lastModifiedBy>
  <dcterms:modified xsi:type="dcterms:W3CDTF">2013-09-06T15:12:55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2a | The net burden of health-related expenditures is about 2-1/2 times as large for very low income families compared to very high income families.</vt:lpwstr>
  </property>
</Properties>
</file>