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6D18-DC00-4D6A-82A1-FCF5CF2DB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FDAC-7CB5-467A-A4EF-B6B81D549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9DC4-1C4A-47FA-9849-4B9E6FDB0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FE7C-9707-467C-AD37-A5CD076E8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214F-51AE-4A3D-978B-B16B9B77E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6391-E2FC-452E-A86A-030FD3096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5844-0DA7-4C9B-BBCD-CD66F7AD0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9B14-0999-4474-B4D8-DD5B5108D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7619-41EB-4B61-BD96-1BBFB3AFE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D704-DFAC-458D-9332-F0D9B3E97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5B26-7F90-4426-9CA6-8776218F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0DFA-BD69-4197-8D63-2F74B59A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11AB7-E368-4945-A401-1000828DE9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03120" y="0"/>
            <a:ext cx="8537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4:52Z</dcterms:modified>
  <cp:revision>31</cp:revision>
  <dc:subject/>
  <dc:title>PowerPoint Presentation</dc:title>
</cp:coreProperties>
</file>