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5905-CA2E-4321-A9C1-20887910D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b | Distribution of Net Burden of Health-Related Expendtures by Family Income Decile, by Type of Payment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C7F9-FC1B-4007-B463-E210D7613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23F-0646-44CC-947E-EA00CE2C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6B8-B65A-48C1-998E-86E9169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D86-7E37-4337-9C27-3D300D7D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298-09FD-4503-8E77-3E7BBE2F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D1D-9010-4CD2-BA61-4F7DB093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E9B-A60A-4B59-A0DD-ED934290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01E-3ED3-4153-8C9A-62FF2701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BB1-1CBD-4B6D-88CC-0411AB58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FDC-5EB8-46D3-B4B6-7355F748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22D-7CF0-4E66-9273-5F2DDC3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D22-21E2-4001-9576-91F97975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266-DBA3-49B3-A11B-B716E730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B646-EFCC-445B-BC6B-270722B19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2b | Even for the lowest-income families, health-related taxes account for more than one fifth of the net burden of paying for health 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76280" y="5359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12800" y="174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net burden of health spending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60520" y="579132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b | Even for the lowest-income families, health-related taxes account for more than one fifth of the net burden of paying for health  care.</dc:description>
  <dc:language>en-US</dc:language>
  <cp:lastModifiedBy>Jia Yao</cp:lastModifiedBy>
  <dcterms:modified xsi:type="dcterms:W3CDTF">2013-09-06T15:12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b | Even for the lowest-income families, health-related taxes account for more than one fifth of the net burden of paying for health  care.</vt:lpwstr>
  </property>
</Properties>
</file>