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9655-879D-42B1-ADF3-35B20ECEB5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2.1B | TRENDS IN CONCENTRATION OF MEDICAL EXPENDITURES, 1928-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9BC5-51C6-4BC8-822D-813AA0F58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73D-214E-4046-AA42-B36BDC77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3B4-0087-49E1-AEBF-EDD65EC5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945-CA52-4B85-BD4E-6398AC65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24B9-9B54-4778-AA4D-9B38E11F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478-7C25-4888-9E4A-9C5B3A1A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6CA-1840-47EA-8B44-9BD4F500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EC6B-3816-42E6-A348-27F1B6EF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8AB-C947-486F-A095-0D8DC2AA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C33-D917-4EE0-934A-AE9BF6A0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E74-1F55-4A7A-8057-C798171D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34B9-74E9-44F4-940F-AD8CBC58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FFE5-9683-4F2D-90B9-6042AA55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F182-A846-4013-AFFE-B70B44292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2.1b | The concentration of health spending has been quite stable over decades, but there is some indication it has declined rec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549440"/>
            <a:ext cx="90169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3600" y="1523880"/>
            <a:ext cx="56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annual health spending accounted for by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13:12:38Z</dcterms:created>
  <dc:creator>Kristy</dc:creator>
  <dc:description>12.1b | The concentration of health spending has been quite stable over decades, but there is some indication it has declined recently</dc:description>
  <dc:language>en-US</dc:language>
  <cp:lastModifiedBy>Jia Yao</cp:lastModifiedBy>
  <dcterms:modified xsi:type="dcterms:W3CDTF">2013-09-06T15:12:52Z</dcterms:modified>
  <cp:revision>23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2.1b | The concentration of health spending has been quite stable over decades, but there is some indication it has declined recently</vt:lpwstr>
  </property>
</Properties>
</file>