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9B93-2B5F-4C82-B8CE-2A109667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744A-C80D-4B41-9EB5-F4754463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CF7-F58A-43B2-8234-1394EF1B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4C0-3C9A-4AD2-9C36-B551DDEE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B99-F344-4996-ACCF-F01CCA0C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4BE-B0F0-45B1-943B-51EC897C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BE3D-181E-4A44-ADA0-78F226E6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8BB6-57D3-43E4-94AC-74912DA8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2A3-08E0-4529-BD95-0A9C32E7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8755-EBFD-4C68-B1FF-5F228C68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251-09B9-42AF-BDD0-1B39F799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813-296C-433F-AF4C-C68FAA8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7E5A-2EC6-4070-A689-36888BCB4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1680" y="360360"/>
            <a:ext cx="911232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4:51Z</dcterms:modified>
  <cp:revision>31</cp:revision>
  <dc:subject/>
  <dc:title>PowerPoint Presentation</dc:title>
</cp:coreProperties>
</file>