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4659-76A7-4A61-9BE1-D96939D5C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A | CONCENTRATION OF MEDICAL EXPENDITURE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A5E9-94F8-4846-8478-F56AFFB2D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236-192F-4A4F-A12D-5190029C6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123-CCA1-4FEC-83E5-B0429F72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1B2-BEA6-461E-A7C8-FD15C1F3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CC6-9D12-4B39-83EE-814B4E35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7E6-2D3A-419F-80E7-A010EC4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AFB9-D8F4-4B81-B164-128F5C41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3AFB-F6D1-4ED2-83D5-0A580243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F26-6952-4984-B608-3BA11B91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A72-5D0E-4FAB-ADBC-FB3ECFC8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40D-C878-4F9A-AF60-A60357FE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FDB-D99F-4BD2-8C4C-F88935A7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F87-F998-4B67-9966-ED4FDE12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3B3-E460-420B-AF5E-C54BA02C38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Narrow"/>
              </a:rPr>
              <a:t>12.1a | Only 1 percent of the population accounts for about one quarter of health spending; 5 percent account for nearly hal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6" descr=""/>
          <p:cNvPicPr/>
          <p:nvPr/>
        </p:nvPicPr>
        <p:blipFill>
          <a:blip r:embed="rId1"/>
          <a:stretch/>
        </p:blipFill>
        <p:spPr>
          <a:xfrm>
            <a:off x="-50760" y="977760"/>
            <a:ext cx="8788320" cy="49024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29160" y="1160640"/>
            <a:ext cx="37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health spending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170360" y="116064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stimated per capita spending 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4864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percentages are for the civilian, non-institutionalized population based on Me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penditures Panel Survey (MEPS) data for 2008.  2011 per capita spending has b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lculated from 2008 figures, adjusted to account for increased personal health spen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 capita and to reduce differences between MEPS and National Health Expenditure estimat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523880" y="50292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istribution of population ranked by annual per capita health spe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0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a | Only 1 percent of the population accounts for about one quarter of health spending; 5 percent account for nearly half</dc:description>
  <dc:language>en-US</dc:language>
  <cp:lastModifiedBy>Jia Yao</cp:lastModifiedBy>
  <dcterms:modified xsi:type="dcterms:W3CDTF">2013-09-06T15:12:48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a | Only 1 percent of the population accounts for about one quarter of health spending; 5 percent account for nearly half</vt:lpwstr>
  </property>
</Properties>
</file>