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192-AACE-4FCC-816F-1160D2ED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06A4-4D92-4F6A-AEE4-496AA26A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1B6-AB1B-409A-8393-C678E12F2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B06-D54F-4646-9E4F-F1A73DA9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212-9175-4C31-B828-518FBB47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9FB-45BF-4751-9BA7-88097344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46C-C4BB-4A6C-98A3-59E63367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FDAF-914B-47DD-9874-F6068F3A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021C-3D09-459E-B843-3E8DFC5C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F93-892A-4368-BDBF-786EBAE3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647-93D8-4179-B08C-3113DFAD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F8A4-5D89-4FE0-B0A6-72CD0FEC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C36A-4203-465E-8704-65F72F744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00160" y="0"/>
            <a:ext cx="87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49Z</dcterms:modified>
  <cp:revision>31</cp:revision>
  <dc:subject/>
  <dc:title>PowerPoint Presentation</dc:title>
</cp:coreProperties>
</file>