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4465-92A2-4804-858C-D57D395A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A64-079A-4723-8FEB-AF811987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86EF-D24F-451A-8A7A-9EA04E423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B25B-3040-4696-A94C-DE98418F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DE0-E914-4E31-9CA2-EC5D7DA6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6923-FE1F-47E0-B328-1C5B4F95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8F6-5FCB-4DAA-922B-0BFEEFAF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CB7-4E09-4D53-889B-5EDE2AEF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349-C16A-41F2-9E12-0F71F778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5C3-3733-45A5-ACEF-AABB0F55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959-04A7-4981-A97A-91F5F37C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254-020D-4B4A-A33B-F57D15A3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5F6A-02B5-44FC-946E-93356E741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680" y="360360"/>
            <a:ext cx="91123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1Z</dcterms:modified>
  <cp:revision>31</cp:revision>
  <dc:subject/>
  <dc:title>PowerPoint Presentation</dc:title>
</cp:coreProperties>
</file>