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8D64-9896-4755-9DE1-B47ECFFDC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B | PRIVATE HEALTH INSURANCE COVERAGE OF ELDERLY 65 AND OV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648A-E37E-46E7-B1C3-97CE7BE04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806-CA11-4A4D-ADC5-3032E45F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E0B-74B4-4E6D-98E7-0C106F95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B06-7D5B-4A84-8EC4-B9F40762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4C7-1317-45D2-9D21-2DD5825F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8B9-6B4F-420B-B059-AA090A73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0B7-5312-4E8A-AFEA-C3665B7C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0DB-73DC-4C53-BCE7-84127FBF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814-67FB-431E-B650-B3521B8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457-8012-4C96-A321-26C2CF58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A8E-882B-4489-BEC7-70A8AE43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E9E-5AE6-4997-8A22-620F4101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4CE-6BCC-4318-B612-F900B42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9B81-7F4A-4578-8E86-1FE332641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b |  A large fraction of the elderly has supplemental Medicare coverage through employers or non-group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168560"/>
            <a:ext cx="92455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20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b |  A large fraction of the elderly has supplemental Medicare coverage through employers or non-group plans</dc:description>
  <dc:language>en-US</dc:language>
  <cp:lastModifiedBy>Jia Yao</cp:lastModifiedBy>
  <dcterms:modified xsi:type="dcterms:W3CDTF">2013-09-06T15:17:05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b |  A large fraction of the elderly has supplemental Medicare coverage through employers or non-group plans</vt:lpwstr>
  </property>
</Properties>
</file>