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31E-3645-4222-802C-0A34F57B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527-8837-4FBA-BE2D-D5997703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6C5-5009-466F-80F1-A0F94B40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177-E708-4FC7-873D-7E0ACC46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B43-92D0-4403-B716-29956B18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2B9-D789-4D41-8344-35A1DF62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1AB-F691-4F9B-B248-5B05D0DB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2C9-28E1-4A45-8A1A-9739231F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6C0-444A-4746-96A9-8F038159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807-4316-492E-A442-5BA50829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592-5AA8-49D9-9871-C0ABA44C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051-AFA5-4657-9BD8-BFEC7084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6D98-5EFE-4B0D-A182-928B40ADD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0360" y="85680"/>
            <a:ext cx="90536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3Z</dcterms:modified>
  <cp:revision>35</cp:revision>
  <dc:subject/>
  <dc:title>PowerPoint Presentation</dc:title>
</cp:coreProperties>
</file>