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184-6B7F-4997-AC33-4ABA6D42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AAF-A583-47ED-94E9-8B974B07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C0D-1F0C-4CB3-9E28-FA8BA2B6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442-4271-4AD7-A712-9AE15E4D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F71-F225-492A-A355-A412F564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C3B-5656-4BA5-8758-11ED9973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AFE-F774-46A6-B6C2-122628F9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B2C-C097-4482-9151-A6225505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975-53FB-4C3F-894C-458861F5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85D-9CCB-426F-BF54-32F0BB02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9C8-5559-430A-8A22-BFAE1EA9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865-EC15-4CB2-8FB6-9FEE2191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6880-771E-42F1-AD6C-93D0B6588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82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5Z</dcterms:modified>
  <cp:revision>35</cp:revision>
  <dc:subject/>
  <dc:title>PowerPoint Presentation</dc:title>
</cp:coreProperties>
</file>