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52C2-D3B0-43BC-AE93-48B45CFC4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3B | ADULTS AGED 18 OR OLDER REPORTING FAIR OR POOR HEALTH STATUS, BY RACE/ETHNICITY AND FAMILY POVERTY STATUS, 20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B644-5E64-451E-9F60-EF1F94D6B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1B6-E256-4ED6-916C-D459E3D9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8014-490D-424C-A6D7-3CCF6D1D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465-3600-4235-BCE2-FB354EA8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51CD-F023-4840-A777-8DABC669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853A-FCAA-4551-8C70-FF8CBA74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1F4-5445-4DC4-B68C-D657722B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4105-023D-4EBD-B5E9-F20F50DF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C9F-AE93-4CFE-8DB4-01774B68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906-9D19-4221-9FD5-69B70261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CE9-7DFE-47EE-9609-44A0E7DE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CD51-5BAC-4E6A-A898-326EC55E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0523-C586-4FCD-B6B8-71CF3DCF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C341-B53A-4AF1-98A5-F06CA3DEE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3b | In all poverty categories, blacks have worse self-reported health status than whites while health status for Hispanics is b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reporting poor or fair health (200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3b | In all poverty categories, blacks have worse self-reported health status than whites while health status for Hispanics is better</dc:description>
  <dc:language>en-US</dc:language>
  <cp:lastModifiedBy>Jia Yao</cp:lastModifiedBy>
  <dcterms:modified xsi:type="dcterms:W3CDTF">2013-09-06T15:16:59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3b | In all poverty categories, blacks have worse self-reported health status than whites while health status for Hispanics is better</vt:lpwstr>
  </property>
</Properties>
</file>