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5AC-A601-4AF5-9071-AE46B0E1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F14-BDC8-4820-A102-376ADB2C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9347-CC64-4BCB-97DB-F8C96320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E7DD-9045-4968-BD44-5CAA4305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50D-E01A-4D07-8922-5DBCDA35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A70-662E-4C63-980F-D552E719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55F-245A-4FC3-B33A-613EC8DD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A2A-07EB-4334-A38D-22F6604B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AF9-9927-4593-855B-06B8C07D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4F5-47A3-484E-9461-CFBBF0D1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EFB-63CC-4225-8251-5D664908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517-3808-4C9B-AE7F-A9425A18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3828-72B7-43E0-B66E-C412623E3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1Z</dcterms:modified>
  <cp:revision>33</cp:revision>
  <dc:subject/>
  <dc:title>PowerPoint Presentation</dc:title>
</cp:coreProperties>
</file>