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0F41-F599-40F1-A2F2-B7BFAADF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091A-1C82-4225-8AAD-8E578278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8F2A-6AC1-4E2B-A243-CDF251C2F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A78A-3954-4612-A9D1-A526BF1F3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B2F5-BE0E-48D9-A1A6-BACC7375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A62B-E0A4-4E45-AD54-BACCB355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9900-F8CF-44ED-843A-3C55227E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3C1A-0F16-487D-8DE0-994A414C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A721-0125-484E-A24E-06C078C6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6772-EF6E-43BB-8FE6-5585D904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38B8-1C6D-4A18-B6C9-7F7AC460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2A5C-5FB8-4F94-97A6-00C8ABC5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B4E8-4884-4C5C-8605-4A85593206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9600" y="0"/>
            <a:ext cx="906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30Z</dcterms:modified>
  <cp:revision>33</cp:revision>
  <dc:subject/>
  <dc:title>PowerPoint Presentation</dc:title>
</cp:coreProperties>
</file>