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DE85A-2F49-4AB4-910A-95B3CE0C1D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3.3A | SELF-REPORTED HEALTH STATUS OF ADULTS AGED 18 OR OLDER, BY FAMILY POVERTY STATUS, 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D41D9-65A1-4496-BE0D-8509188767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0004-7164-42FE-B3FC-50278F222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4B96-354D-4A02-8985-46F7C9293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05B6-E749-4424-AA19-2BE00CD6C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F7A5-B416-4346-BD64-C489CEE49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D2DF-F29D-4EFB-B7A1-33CDA4FCB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F402-5670-456A-B7EB-03ABAE7D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2A83-AB55-41BB-A2B2-5D2666EE7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4A36-A738-4A79-97D3-ED5BAB230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A684-8BC5-496C-9FC1-B1CECA795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68B6-BCDB-4FB2-A0A9-D5814427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A15F-0550-486D-B09C-57CF7479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27F3-44C8-449E-8317-8006E2FA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72E96-26B5-4B06-B17E-E3813F78A5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3.3a | Based on self-reported health status, the percentage of people in fair or poor health is highest among the poor and near-po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2666880" y="5943600"/>
            <a:ext cx="42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amily income as a percentage of poverty (200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533520" y="137160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individuals (200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14:26:56Z</dcterms:created>
  <dc:creator>Kristy</dc:creator>
  <dc:description>13.3a | Based on self-reported health status, the percentage of people in fair or poor health is highest among the poor and near-poor</dc:description>
  <dc:language>en-US</dc:language>
  <cp:lastModifiedBy>Jia Yao</cp:lastModifiedBy>
  <dcterms:modified xsi:type="dcterms:W3CDTF">2013-09-06T15:16:56Z</dcterms:modified>
  <cp:revision>1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3.3a | Based on self-reported health status, the percentage of people in fair or poor health is highest among the poor and near-poor</vt:lpwstr>
  </property>
</Properties>
</file>