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2A0-E502-4803-8A93-D4624BB7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DD30-997B-4CDC-A43F-C6760B9F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E50-3B7E-4529-8386-B1EA4A7F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765-960A-44B1-AC06-F93CEEAC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F57-988F-48B6-A711-25A2CF82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7F6-C007-4485-B86D-1A6F74EC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BC4-0444-4A26-8D51-6EF80C8C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416-CC5B-4862-B2D7-8AE357D4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403C-57F5-4307-9780-09E436E3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B53-CA2B-43DF-B7D6-2B059F7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EFD-0D41-4351-A00F-0D9D88C5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FCD-7A91-422E-AAC8-1C2393FF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1BAD-0C48-4C6D-A060-D26B21521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9600" y="0"/>
            <a:ext cx="906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6:30Z</dcterms:modified>
  <cp:revision>33</cp:revision>
  <dc:subject/>
  <dc:title>PowerPoint Presentation</dc:title>
</cp:coreProperties>
</file>