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3A16-112B-4D77-9C56-309E1E828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B | ADULTS AGED 18 OR OLDER REPORTING FAIR OR POOR HEALTH STATUS, BY RACE/ETHNICITY AND FAMILY POVERTY STATUS, 200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5FB2-34DF-41BB-B7A0-515846EE1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F19-9AC3-43ED-9764-188A9A35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1A1-DD3B-4822-9469-1D80959C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D31-D822-4244-8E1A-873F2767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6B9-710B-4922-8684-2C656CA2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EF96-F7DF-42B8-B6BE-E2DF81E0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CC3-4EED-4501-9C2F-376EE810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1364-42EE-476B-8937-1B1F811E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6FE-3EC6-4E48-A6E1-823387A1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7E8-537D-468F-9D6F-4341DD3A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8F9-37D6-4F05-98D3-48A5C94C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743-7D9C-4F04-AFAD-F0640A97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1D5-6DFD-4E23-AC37-01C3973D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3F0E-FBAC-46CD-9D73-EDFDD9245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3.3b | In all poverty categories, blacks have worse self-reported health status than whites while health status for Hispanics is b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447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reporting poor or fair health (200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b | In all poverty categories, blacks have worse self-reported health status than whites while health status for Hispanics is better</dc:description>
  <dc:language>en-US</dc:language>
  <cp:lastModifiedBy>Jia Yao</cp:lastModifiedBy>
  <dcterms:modified xsi:type="dcterms:W3CDTF">2013-09-06T15:16:59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b | In all poverty categories, blacks have worse self-reported health status than whites while health status for Hispanics is better</vt:lpwstr>
  </property>
</Properties>
</file>