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CD8-DC1D-41E1-8A18-7702F40A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03A-B6F8-44BC-A452-763D0E6C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AB40-B425-4CFD-A4F5-A3FCF7A5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B62F-5826-4126-84D7-C00B3168A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0D5-C275-4262-85A3-44C452A2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19B-BDB4-4139-8F09-E18DF99E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383-9373-4679-B20F-CEC1F637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619-7ADF-444A-B79D-E563B88E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902-85CA-4812-BFBB-BC2736DF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49C-EBD3-44D9-A713-64496875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2DCF-6B97-4CCE-9B69-9B64D1BE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694-9442-4EC8-B246-4C4AA3AD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F9E0-8D4C-4C88-8748-1A0EFDD32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1Z</dcterms:modified>
  <cp:revision>33</cp:revision>
  <dc:subject/>
  <dc:title>PowerPoint Presentation</dc:title>
</cp:coreProperties>
</file>