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12A8-0ABB-49BA-94B9-916415398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B | POVERTY STATUS OF UNINSURED, PERSONS WITH PUBLIC COVERAGE AND PERSONS WITH PRIVATE HEALTH INSURANCE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F5FE-5B01-4515-9CEA-9A25ADD6E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7B3-E466-49F7-985B-4ACB1495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61C-F487-4955-8EBA-420F99F6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585-8EAF-494C-9AAC-886006E0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D38-C6F0-43A5-B48D-C2C0FF73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A94-70CF-4D30-AEC5-A38336BE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8E7-21F5-417E-B7B3-40B2F840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4E5-E480-4073-9911-08DF46B4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789-1D84-4B08-922D-EBD32661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C6B-A213-4B62-9AA2-4F53AECB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985-49BF-4142-8D89-25B41CE6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920-E68D-48DF-ACE7-1A07DFC4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CE8-E42D-468A-A6F7-58730CD9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B974-4458-424F-A1A3-F664F0398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b | More than half the uninsured and three fifths of those with government insurance have incomes below 200 percent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293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057400" y="1828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5800" y="5943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dividuals with public and private health insurance were placed in the public health insurance categ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b | More than half the uninsured and three fifths of those with government insurance have incomes below 200 percent of poverty</dc:description>
  <dc:language>en-US</dc:language>
  <cp:lastModifiedBy>Jia Yao</cp:lastModifiedBy>
  <dcterms:modified xsi:type="dcterms:W3CDTF">2013-09-06T15:16:5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b | More than half the uninsured and three fifths of those with government insurance have incomes below 200 percent of poverty</vt:lpwstr>
  </property>
</Properties>
</file>