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AD8-87C0-4790-AC60-2DDBD488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8E8-02F5-43E9-A75E-DDE57A4B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933-1064-46D2-A82C-4A7FEA75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415-A0AD-463E-B3DE-A23329BB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109-1E8E-4F4E-8F92-21BB9DAA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FE8-D290-4DB1-B75B-4CA0747D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215-A216-4406-8379-A8588A72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AD7-8807-434A-ADD3-210EA23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842-5BA7-4457-87DF-98CF432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55F-68A2-45E6-8E1E-C2753325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CBA-4455-4A27-ACE6-6C1B8028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FF1-69E4-47B9-B133-41B792C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6F41-6898-4A70-A20D-E38DF6235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1360"/>
            <a:ext cx="9067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8Z</dcterms:modified>
  <cp:revision>31</cp:revision>
  <dc:subject/>
  <dc:title>PowerPoint Presentation</dc:title>
</cp:coreProperties>
</file>