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D11C4-1F73-4AD9-9F17-1162C3FC53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3.2A | HEALTH INSURANCE COVERAGE, BY POVERTY LEVEL, POPULATION UNDER AGE 65, 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FD69D-8466-4501-8E1E-895FDA8C28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65F1-E18F-4306-8B9C-4CEF7A7E8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8A0D-C211-4F75-A766-C73F09D1C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2F75-4F80-4E40-BDD7-A903EFEC1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04CA-07A2-4632-8352-6D6A0BD44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930C-498B-4398-BC30-85B8E3375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3CAF-2977-4A34-83F9-E8BB35A4C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3440-E0F9-403B-B228-E68880E20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4B02-64CD-4712-9621-FE60B1BB7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73D3-5EE1-4932-8620-83D14159E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F3FF-9407-4331-8E3D-685A65EF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4679-390F-470D-80DF-339E337AB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563A-F8B0-4DFE-BFBA-C21D3379F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CE299-E6E8-4487-B24F-0CAB472B5A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3.2a | About half the non-elderly poor have government insurance, while one-third are uninsured; the uninsured rate declines with inco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320840"/>
            <a:ext cx="85597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2895480" y="1498680"/>
            <a:ext cx="524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U.S. population under age 65 with coverage shown (200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2666880" y="5943600"/>
            <a:ext cx="42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amily income as a percentage of poverty (200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6T14:26:56Z</dcterms:created>
  <dc:creator>Kristy</dc:creator>
  <dc:description>13.2a | About half the non-elderly poor have government insurance, while one-third are uninsured; the uninsured rate declines with income</dc:description>
  <dc:language>en-US</dc:language>
  <cp:lastModifiedBy>Jia Yao</cp:lastModifiedBy>
  <dcterms:modified xsi:type="dcterms:W3CDTF">2013-09-06T15:17:34Z</dcterms:modified>
  <cp:revision>13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3.2a | About half the non-elderly poor have government insurance, while one-third are uninsured; the uninsured rate declines with income</vt:lpwstr>
  </property>
</Properties>
</file>