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1D79-997C-4086-8F20-DE1B41DB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C48-7CD1-43B7-BD3F-9BE2E536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D1B-1DFA-4DDC-9797-3ADEE67B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6DE-0B8F-4F7C-8DCC-7CD146D6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0BB-5742-46ED-85CB-692CAA5D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F7B2-1FCE-4817-B632-88C9C050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564-05BE-4AC3-B72A-A494A1A4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C28-ED50-4ABE-84EA-293627D8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C02-E173-4B31-AF9A-A8C7A936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755-34DA-499E-921C-A768C0C1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948-C112-4C12-9B84-E837D3B2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BFD0-197C-419F-8943-243BD3F1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683D-0B82-4357-B5A0-FA7CC7E8D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7440" y="0"/>
            <a:ext cx="870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9Z</dcterms:modified>
  <cp:revision>30</cp:revision>
  <dc:subject/>
  <dc:title>PowerPoint Presentation</dc:title>
</cp:coreProperties>
</file>