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7B94-79C3-4E42-88F2-919DF7856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1a | Number of Persons Below Poverty Line, by Poverty Measu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92D5-92E1-43DD-A0F2-5F18C1B3D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35C-D292-4C1A-B14E-5E316F19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41D-770C-4814-AE73-ADE4E122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A4E-A724-4202-89C5-E9A591B6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F2B-0C24-456E-A84E-4FA117EC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CBE-0245-48E7-83F6-334C9E82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CBD-81F6-437C-8E23-DC145947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611-49EB-4699-9120-EF835C36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A4D-33B7-4E74-8791-5F31B902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EA8-F292-4BF5-A5A5-BA6272BB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562-3DD2-46A3-9574-8605D975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7BB-3FBF-42F1-8283-EC612A0D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4ED-2AC0-444B-AE4C-6D03766B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8654-EABF-4C59-98EB-BBA10729F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a | Taking into account medical expenditures decreases the estimated number below poverty by up to 4.5 million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number below poverty line, in million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a | Taking into account medical expenditures decreases the estimated number below poverty by up to 4.5 million people </dc:description>
  <dc:language>en-US</dc:language>
  <cp:lastModifiedBy>Jia Yao</cp:lastModifiedBy>
  <dcterms:modified xsi:type="dcterms:W3CDTF">2013-09-06T15:16:48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a | Taking into account medical expenditures decreases the estimated number below poverty by up to 4.5 million people </vt:lpwstr>
  </property>
</Properties>
</file>