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D9B5-3BB0-4159-AD1A-760C7C5D6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F34B-A3D9-4069-877E-99DF2BD94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2275-C956-4FB2-AA78-6DC64CB6E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2E8E-65CB-4495-8FB7-69BD9D7A8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EBD1-E155-4209-B9C2-E44FEBD7B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AADF-D265-4EEA-8C3B-B71658C47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F672-9E2D-4EE5-A45C-336F6210B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5A89-77E4-4E10-A018-8082ED2FE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9388-A98C-4C31-905D-722F5DB92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7A12-6F6B-49DC-A383-6FBB5B3A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DD27-A6CA-4324-AB45-AD3A82D3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F6CA-8EC0-4EEF-8850-091B2C8D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7A42C-C5A9-4205-8EE5-4366AF592C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09440" y="0"/>
            <a:ext cx="8925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6:26Z</dcterms:modified>
  <cp:revision>31</cp:revision>
  <dc:subject/>
  <dc:title>PowerPoint Presentation</dc:title>
</cp:coreProperties>
</file>