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656F-BB36-4F2B-A194-AF00E1AED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3.1a | Number of Persons Below Poverty Line, by Poverty Measure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1EF8-EC12-4932-BBA9-044B3414D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1EC5-B529-4064-8FF3-C50F6A62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9C6A-7E7D-4623-AE75-F932456C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3E62-9AD6-4E8C-A3B2-9E3386CB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78A-2E7B-4BC9-80AE-F7642D9F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C7F1-5CFD-4E10-A63B-3EDF4F87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C6E2-9923-4707-89F2-8C2F1678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579F-482C-4052-B6C1-513A24DD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1EB2-2ACD-47C8-B27B-8B7A174E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BC4-AE10-465A-8261-EF049F23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289E-5402-405E-88E8-D7305443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C64-9523-4864-9893-CF645D3A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75CC-B79C-47ED-BC03-2CB96EE9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089A-BC67-42FD-91ED-54E879875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1a | Taking into account medical expenditures decreases the estimated number below poverty by up to 4.5 million peop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tal number below poverty line, in million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1a | Taking into account medical expenditures decreases the estimated number below poverty by up to 4.5 million people </dc:description>
  <dc:language>en-US</dc:language>
  <cp:lastModifiedBy>Jia Yao</cp:lastModifiedBy>
  <dcterms:modified xsi:type="dcterms:W3CDTF">2013-09-06T15:16:48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1a | Taking into account medical expenditures decreases the estimated number below poverty by up to 4.5 million people </vt:lpwstr>
  </property>
</Properties>
</file>