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92FA-5FC1-4032-B2C7-36D4EF09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5B40-698D-40A2-8E60-17E0DD3A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DEFD-F7A8-42AB-8465-8DDAD2EE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080B-476C-47AC-A118-538557E6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B504-795F-4C79-8D2F-7EFCDAC3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9DED-C69E-43BF-9865-788EEAF3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E08E-0C47-4BD7-AB17-DD9D8062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FD22-CC30-40CB-BDA7-286D75B6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1B67-70D3-4A43-B509-29440C54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6979-4421-434C-8105-A150F506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F52B-A9A6-43D2-8DD1-C35242D3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DEBE-62E3-432C-8D46-A80B755D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3E4A-1408-4E19-B285-3B0464798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6080" y="380880"/>
            <a:ext cx="90518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5Z</dcterms:modified>
  <cp:revision>31</cp:revision>
  <dc:subject/>
  <dc:title>PowerPoint Presentation</dc:title>
</cp:coreProperties>
</file>