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4668-64B6-4553-82D0-BFAB87D1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35DB-EF04-4939-9538-A5CC05E3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9628-B72D-4B93-A77B-87FDD29E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EE01-A568-4AA7-8EB9-CC99C9DD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406D-DC83-460A-8815-27AE329F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300F-B01A-431D-AB5F-E50E9A32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EF49-97EF-419E-A5E3-37BFE179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FF31-5E46-4C39-890E-54357CD5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C59-497A-4A49-AAD8-2673C8A1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A5C2-7ADF-4DC2-8F4B-339C791A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3397-EF71-4774-8990-2FD433D0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B940-24CF-46CF-BA5F-4696BEBE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8720-F33D-4B4F-A210-EDA11BDA1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39720" y="0"/>
            <a:ext cx="786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9Z</dcterms:modified>
  <cp:revision>37</cp:revision>
  <dc:subject/>
  <dc:title>PowerPoint Presentation</dc:title>
</cp:coreProperties>
</file>