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8293-71E3-4885-A7A1-83173D6C8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4 | UNION MEMBERSHIP AS A PERCENTAGE OF EMPLOYMENT IN SELECTED OCCUPATIONS AND INDUSTRIES, 1992, 2000 AND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FAC1-F010-44FC-8EA0-A576B8F9C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415-E27D-4C62-B5A0-30BA2F2B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9601-C78B-41C2-A905-8BC51949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1353-C4C2-4EBC-9F1E-C852B5E2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7F0-884B-4D87-9596-A0DD62FF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025A-E07C-433E-9299-62026A4E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B375-E85D-4257-92D1-B479A9A9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804F-2D6B-47AA-A1D0-CA020362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962-0721-4F7F-AAAD-6EFF70DD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C2F2-5501-4948-881F-17676FD2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4668-E179-4F06-B95D-3401EBEC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5527-3BDC-49D9-B8D0-0340C71D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5AA1-E122-4BA6-AE71-58D09CAA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975F-3675-45EF-8891-58AFCAD58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4.4 | Health industry unionization rates appear comparable to those elsewhere, but among some health occupations, unionization is much grea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workers in industry/occupation who are union me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5 | Health industry unionization rates appear comparable to those elsewhere, but among some health occupations, unionization is much greater</dc:description>
  <dc:language>en-US</dc:language>
  <cp:lastModifiedBy>Jia Yao</cp:lastModifiedBy>
  <dcterms:modified xsi:type="dcterms:W3CDTF">2013-09-09T22:42:23Z</dcterms:modified>
  <cp:revision>28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5 | Health industry unionization rates appear comparable to those elsewhere, but among some health occupations, unionization is much greater</vt:lpwstr>
  </property>
</Properties>
</file>