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DD5B-954C-4B62-B892-576E8C30D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 | State Rankings of Health Services Regulation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E1CC-65CA-4AD2-9133-CF6D4579C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4AB-F3E8-4DFC-A150-4836BE90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B21-B68A-485D-A3EB-374FCAA2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3E0-26FE-41B8-B7D5-6A0CE86B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273-A657-4A55-A837-41C7F832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274-5227-4A55-A692-D6A40F73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2F8-7592-46AD-BA66-D04008FE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57F-8B81-49DB-871B-ED043C35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295-2B76-4B92-B5D7-AA9A677E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4F4-12A5-4978-B47A-10BED2D0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893-89CD-4FCD-AE21-D92E5C08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5EF2-8612-4C0D-A180-9E878C5F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622-F3FD-456B-96F7-581CF9FD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378F-C3B5-40AB-A500-2C491506C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4_3.png"/>
          <p:cNvPicPr/>
          <p:nvPr/>
        </p:nvPicPr>
        <p:blipFill>
          <a:blip r:embed="rId1"/>
          <a:stretch/>
        </p:blipFill>
        <p:spPr>
          <a:xfrm>
            <a:off x="912960" y="571680"/>
            <a:ext cx="6935760" cy="51973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447920" y="7621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4.3--State Rankings of Health Services regulation, 2007 (1=lea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09480" y="585144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raham J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dex of Health Ownersh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3rd Edition. Pacific Research Institute. 2009. http://www.pacificresearch.org/docLib/20090720_IHOP_3_2009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22:45:09Z</dcterms:created>
  <dc:creator>Jia Yao</dc:creator>
  <dc:description/>
  <dc:language>en-US</dc:language>
  <cp:lastModifiedBy>Jia Yao</cp:lastModifiedBy>
  <dcterms:modified xsi:type="dcterms:W3CDTF">2013-09-09T22:45:55Z</dcterms:modified>
  <cp:revision>1</cp:revision>
  <dc:subject/>
  <dc:title>PowerPoint Presentation</dc:title>
</cp:coreProperties>
</file>