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66C-8CAA-453F-BA2B-91C65E86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A24-5D6D-4193-A47E-B1FE1EAD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217-C20B-4928-A4C1-F295D625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BF7-8BDD-4365-A21C-E929216A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071-067B-48D3-BC80-24CE3FC5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2C4-06D2-4D3B-B2EB-25D2C4AA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B11-0DA3-49D4-A037-5DBBC07F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215-306A-483F-9C8E-6EB745CF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A16-A0A0-40E2-BA77-4677FFA7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354-21AE-41D5-851E-D93A5E9C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EDA-4CEF-485B-AFF3-185D69BA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6B9-6640-4C5B-8824-1DA833E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2761-0D8A-4EC6-B13A-D02CD9F49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8Z</dcterms:modified>
  <cp:revision>35</cp:revision>
  <dc:subject/>
  <dc:title>PowerPoint Presentation</dc:title>
</cp:coreProperties>
</file>