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A11-065F-4A85-A85F-51597948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F6F-4AC3-479D-9C8D-056F6C42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888-BCC1-4B10-82E9-972DFF63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6DE-45C2-4901-8316-74BCC716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764-62FA-4F3B-BE9E-D641B09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F08-0EA1-4452-99E6-F895507B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063-967E-49A6-9E1F-9822A801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0F9-B069-414E-8E55-FD2046A9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DC3-3B56-48B8-8622-545B270A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078-1EDF-4B11-A620-B7C2B7D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499-B751-4B21-985D-26E5094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517-241F-4B79-89D8-D1B0581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17A0-5874-410C-9806-AB7E7F33F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0"/>
            <a:ext cx="8972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31Z</dcterms:modified>
  <cp:revision>35</cp:revision>
  <dc:subject/>
  <dc:title>PowerPoint Presentation</dc:title>
</cp:coreProperties>
</file>