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22D6-0CBF-4FC6-BE29-9CCD5A33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AA75-C42F-4B44-AE6B-9FB664E8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6738-D2C3-4E69-AA3B-E12E23C9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9088-6895-43B7-8A5F-5CD3DDB0C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A009-BD5D-42A9-9A7C-0A75F89F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C1AF-9A2E-4400-ADFC-91F9C819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B1AB-0669-41D3-9FF1-77B46DCE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F65D-B891-4569-A2F6-BCB037FC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8645-8856-4157-AA6A-F8BEB552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48B8-E4DB-4E11-B3D6-E195CCEC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D6D3-C811-4C26-85F5-CA46E92E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CCCE-CB3C-478C-818E-BA15DAB0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24F6-9BA4-44FB-B7B1-5A9E96EE8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40" y="228600"/>
            <a:ext cx="9058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6Z</dcterms:modified>
  <cp:revision>35</cp:revision>
  <dc:subject/>
  <dc:title>PowerPoint Presentation</dc:title>
</cp:coreProperties>
</file>