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8E39-E655-4A5A-90D3-18F50277C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4.3A | Alternative Measures of Concentration Among Health Insurers Across Metropolitan Statistical Area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1308-B797-40CC-A627-BE3E0D397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B388-0856-42DA-9E9A-C7B616C1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4B45-3F03-4F6B-827A-D2913F28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A44F-96F3-43F7-883C-741B995A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478-D01B-4E9D-85CE-A86A082A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905-AFC2-402A-8E10-FE8DC03A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C7F2-DCC9-4811-B667-9064EC03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2D66-0B73-4674-9117-265B99A5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C45D-7795-46B0-978C-1445C546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101-69AD-48CC-9533-BF98A888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96D3-60DB-4375-BAC7-4E5C95C0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0D7F-FABC-4B12-AF38-E859559F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DCD3-FB32-4271-8289-90A1B083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82F4-DE6D-4370-88F8-1F7B1C88D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2a | By conventional measures, many metropolitan areas appear to have very high levels of insurance company concen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176040" y="1558800"/>
            <a:ext cx="8788680" cy="5359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609480" y="14479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Metropolitan Statistical Areas (MSAs) with concentration level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3960" y="6095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American Medical Association. Competition in Health Insurance, 2010 Update. Chica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10. Managed Market Survey © 2008, HealthLeaders-InterStud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2a | By conventional measures, many metropolitan areas appear to have very high levels of insurance company concentration</dc:description>
  <dc:language>en-US</dc:language>
  <cp:lastModifiedBy>Jia Yao</cp:lastModifiedBy>
  <dcterms:modified xsi:type="dcterms:W3CDTF">2013-09-06T15:22:53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2a | By conventional measures, many metropolitan areas appear to have very high levels of insurance company concentration</vt:lpwstr>
  </property>
</Properties>
</file>