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35C5-E2CA-46DE-BD92-947D8D5B7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7B8F-9EA3-4842-A8B4-3513D922C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8B8C-471D-4D4B-9AFE-D0774719F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0E1F-80CB-4472-86EF-359EF8BC8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E3D5-180D-4682-8304-3141CEC7C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706F-EA04-47EE-97DD-941AFE79D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2002-B85C-4575-A6E0-3E28C18E5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2082-BBD2-4B91-87A2-9D0FE1C73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EB03-1120-491D-9F77-657BD8EDA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6EB8-2AD3-4800-83CA-B3CD802D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1181-9B4A-4E46-96A0-1BD5BFDA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1439-B5C3-4474-AF76-B6B9E3E9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EAB2B-4701-4155-B2A0-9A8F40C82C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246320"/>
            <a:ext cx="9144000" cy="43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7:14Z</dcterms:modified>
  <cp:revision>35</cp:revision>
  <dc:subject/>
  <dc:title>PowerPoint Presentation</dc:title>
</cp:coreProperties>
</file>