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0939-E27B-456E-B4D2-EFAA6548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A181-E6D8-466A-81B1-4BF913C7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BEC-C6A3-4934-A86D-296BF6F1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BE25-DE5E-4DDD-9639-3E581627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6B1-5C31-4772-9AAE-A0E80214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107-1E42-46F7-9E02-4D268B9B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ACA-D04F-49E8-87F9-D94F419B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806-6DFC-49EE-82DF-426B7AF0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F5C1-AB10-4DBF-AA93-6035D349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F16-B1B0-4D9E-9CC5-A2A42F21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E79-005C-4A44-8175-032B6EE1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55D-FAB3-43E7-8B1C-AE7372D5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BA5E-9B6F-4C8D-972E-F5B9BC014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2Z</dcterms:modified>
  <cp:revision>35</cp:revision>
  <dc:subject/>
  <dc:title>PowerPoint Presentation</dc:title>
</cp:coreProperties>
</file>