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42C8B-DD1D-4CF8-A867-C267A228F8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4.1C | PERCENTAGE OF PRIVATE EMPLOYEES IN SELECTED COMPONENTS OF HEALTH SERVICES INDUSTRY, BY SIZE OF FIRM, 2007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F4937-CA7C-4BF1-84F2-63EAE7059E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7B7A4-DA2E-49D0-899D-57D9FD0E8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4F42B-FAC9-4DF1-8A32-BC10BC77C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79015-DF33-4108-BC94-04C8D7499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FDD80-0C85-4559-B846-79B9FB98A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7482C-5F26-4385-8477-701B8090C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A6C1C-DC72-478D-B69F-A50AA3CFC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F2A9A-42B2-4BBF-BE43-D2D177089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F27DA-CC24-4447-8C6E-5972C4372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57160-D2F3-41CB-9CC2-7D4CF0ACB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A1F62-ABAB-4F8E-9CFB-E72CD0691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7E38F-AF43-4A71-82BD-6550FFA2D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29A4B-80F1-4FD1-8DED-E895312E9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4E822-1C50-4659-9726-B932634926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4.1c |  In the goods-producing area of the health sector, most employees work in medium or large-size fir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291960" y="1015920"/>
            <a:ext cx="8560080" cy="589284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457200" y="1447920"/>
            <a:ext cx="762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ercentage of total employees within an industry working in firm size shown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8T12:01:16Z</dcterms:created>
  <dc:creator>Kristy</dc:creator>
  <dc:description>14.1c |  In the goods-producing area of the health sector, most employees work in medium or large-size firms</dc:description>
  <dc:language>en-US</dc:language>
  <cp:lastModifiedBy>Jia Yao</cp:lastModifiedBy>
  <dcterms:modified xsi:type="dcterms:W3CDTF">2013-09-06T15:22:51Z</dcterms:modified>
  <cp:revision>284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4.1c |  In the goods-producing area of the health sector, most employees work in medium or large-size firms</vt:lpwstr>
  </property>
</Properties>
</file>