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EFE1-37BE-49B6-AFC9-EC2FB23C6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A | PERCENTAGE OF FIRMS AND PERCENTAGE OF PRIVATE EMPLOYEES IN HEALTH SERVICES INDUSTRY AND ALL PRIVATE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B372-DB10-45D6-BBD0-66A8D5DA5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69D-0D47-4D72-A565-3DE7A29D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ACDB-7B62-4C64-8DFF-25CE31DF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D2B4-418D-45EB-80B6-C542EF38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87CB-5DC5-4E48-98DA-967BD9DF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8CF-7418-4CF4-B1B1-A154C9BF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8BA-4D08-4D2F-9210-87976685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1BEA-D63E-486F-8ECD-FC7E1CCF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60AC-B6A2-4876-9B8E-83A5A7A5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CD8-F714-434B-886B-1710285E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9A52-CDFC-4FBF-93E1-F1531575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2FA8-041A-4DB8-BE7E-30A826FB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C7D7-1944-4C1C-AC16-499737F7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A142-CCAF-40D4-88D3-BBB8D7C2A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a | Compared to all private sector workers, a much higher share of health services employees work for very large fi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786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33520" y="18288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firms or employees within an industry working in firm siz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85800" y="5575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health services employees include those in ambulatory health care services, hospitals, and nursing homes and other residential care facilit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a | Compared to all private sector workers, a much higher share of health services employees work for very large firms</dc:description>
  <dc:language>en-US</dc:language>
  <cp:lastModifiedBy>Jia Yao</cp:lastModifiedBy>
  <dcterms:modified xsi:type="dcterms:W3CDTF">2013-09-06T15:22:47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a | Compared to all private sector workers, a much higher share of health services employees work for very large firms</vt:lpwstr>
  </property>
</Properties>
</file>