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1DD0-DD21-4B94-967F-C3528FA221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4.1B | PERCENTAGE OF PRIVATE EMPLOYEES IN SELECTED COMPONENTS OF HEALTH SERVICES INDUSTRY, BY SIZE OF FIRM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BEB7-FD5B-4146-B2A1-681DAA50E9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BDBB-4244-4E09-A490-BAD938711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FE4D-00AF-4A7F-83A5-79CA06BA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DD41-3416-4209-B37A-92FF2FAB4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4B5C-F8C2-427D-9669-D06D21CFC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832B-B7EC-46E4-9E5C-1C89983E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5FE3-F152-4FDB-972C-A84523E1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481D-4D4C-41BF-A940-0902BC22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3083-8922-47AC-8D5C-2705ABAA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59CB-FC22-44C4-975D-00BD3690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CB42-B605-4989-AD16-BADDC218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404E-0BA3-4164-8E08-BBC44824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A13C-3076-4B40-AB07-570E096A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86BD-721E-4B97-BCF5-3C1C241289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4.1b | More than half of hospital and health insurance employees work for firms with 500 or more work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91960" y="939960"/>
            <a:ext cx="8560080" cy="52066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57200" y="13716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employees within an industry working in firm siz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2:01:16Z</dcterms:created>
  <dc:creator>Kristy</dc:creator>
  <dc:description>14.1b | More than half of hospital and health insurance employees work for firms with 500 or more workers </dc:description>
  <dc:language>en-US</dc:language>
  <cp:lastModifiedBy>Jia Yao</cp:lastModifiedBy>
  <dcterms:modified xsi:type="dcterms:W3CDTF">2013-09-06T15:22:49Z</dcterms:modified>
  <cp:revision>2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4.1b | More than half of hospital and health insurance employees work for firms with 500 or more workers </vt:lpwstr>
  </property>
</Properties>
</file>