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0152-E884-4EE3-8496-27FD980683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5.2 | ANNUAL HEALTH EXPENDITURES AS A PERCENTAGE OF HOUSEHOLD NET WORTH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7A3C-9A90-45A0-881E-ECF3FB3571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0B77-1E19-4016-B0A3-4C2767480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0A46-77D7-4B37-A258-ABBB4B77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A8B5-03F5-4439-ADEE-19608E441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3D8A-3851-4CD0-8AE1-919851A7A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E1C5-3F3E-4418-8E1E-CD4030FF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D66E-4F24-4F58-9998-EEC2EAA9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D9B7-D390-48B7-9C8C-8F16B4ED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9143-3C69-4F9A-A6B0-D991BDE9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2F32-0CE4-4FDC-8FE2-202210D9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F9C7-C193-48F5-BAF3-81B14849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4CDD-E909-441D-B1C9-361968F8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7CD4-7673-4121-B0ED-6ACD746D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4886-46DC-4968-B941-87A7BEF5D9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5.2 | For low income families, the cost of having one member in the top 10 percent of health spending would exceed net wor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43689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52388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mulated spending as a percentage of family net worth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609480" y="57150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simulated spending estimated assuming 1 family member had health spending in the top 1, 2, 5 or 10% of individuals ranked by expenditur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4:15:23Z</dcterms:created>
  <dc:creator>Kristy</dc:creator>
  <dc:description>15.2 | For low income families, the cost of having one member in the top 10 percent of health spending would exceed net worth</dc:description>
  <dc:language>en-US</dc:language>
  <cp:lastModifiedBy>Jia Yao</cp:lastModifiedBy>
  <dcterms:modified xsi:type="dcterms:W3CDTF">2013-09-06T15:26:03Z</dcterms:modified>
  <cp:revision>291</cp:revision>
  <dc:subject/>
  <dc:title>15.1 Household Net Worth, GDP and NHE, 1929-200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5.1 Household Net Worth, GDP and NHE, 1929-2009</vt:lpwstr>
  </property>
  <property fmtid="{D5CDD505-2E9C-101B-9397-08002B2CF9AE}" pid="3" name="SlideDescription">
    <vt:lpwstr>15.2 | For low income families, the cost of having one member in the top 10 percent of health spending would exceed net worth</vt:lpwstr>
  </property>
</Properties>
</file>