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F42A-53AD-430F-8B35-F01E99F3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FC96-776E-4822-8B65-61C0DC32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213-520E-41C4-8E81-5F15D5AD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ABF3-7297-46DF-8CEA-F5A1F3B4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AB7-B4C7-40C9-85A6-EA74A8B0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71A-50E6-4AC9-9CD3-7E4DD63D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11C-E325-4151-8630-7B59C3AE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6E28-91F8-4ACB-AAE2-BD32DBB5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5ECC-C9BE-4D28-AE7B-B4A6FA91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41D1-D92F-4DBF-8A58-C1F4BDC9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98DE-9D5D-47F0-8234-69B91ED8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232-72B2-4FC7-9918-03AD7219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A27E-6AFF-41B9-A258-9EBE71930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152280"/>
            <a:ext cx="89856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6Z</dcterms:modified>
  <cp:revision>37</cp:revision>
  <dc:subject/>
  <dc:title>PowerPoint Presentation</dc:title>
</cp:coreProperties>
</file>