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F59A4-DCFA-4402-B197-C0B5325077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5.1a | Inflation-Adjusted Per Capita Household Net Worth, GDP and Health Spending, 1952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0B457-8BBE-4BEB-8BB2-72B3AE7405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8AD7-11D1-4FD4-98C5-46048C693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F2F4-B52C-44ED-A428-C9BCD35D6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2E68-5054-42C2-8524-638B8E505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9800-996B-4CF8-8EAF-C2973B5D2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5963-DF06-4B8C-B3EE-E17CDDB08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0638-17A9-48B7-AE12-707A4109D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CA6A-2554-4F58-8D2A-8FC9CCCDD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244E-9239-49FC-9FD8-DCF0124A3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5AB9-492F-4CBC-A8DB-10682B4A6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2E04-0D8E-41C3-937B-FFDCC342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C241-782B-4E85-9CC5-81ECA15D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5E82-FF51-4175-A2F1-CF5C1D5C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789CF-188B-4158-AF2E-158DACE3BF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5.1a | Since 1950, inflation-adjusted health spending per capita rose much faster than per capita household net worth or GD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168560"/>
            <a:ext cx="8331120" cy="57402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762120" y="129528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dex of real amounts per capita, 2005 chained dollars: 1950=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9T14:15:23Z</dcterms:created>
  <dc:creator>Kristy</dc:creator>
  <dc:description>15.1a | Since 1950, inflation-adjusted health spending per capita rose much faster than per capita household net worth or GDP </dc:description>
  <dc:language>en-US</dc:language>
  <cp:lastModifiedBy>Jia Yao</cp:lastModifiedBy>
  <dcterms:modified xsi:type="dcterms:W3CDTF">2013-09-06T15:25:59Z</dcterms:modified>
  <cp:revision>291</cp:revision>
  <dc:subject/>
  <dc:title>15.1 Household Net Worth, GDP and NHE, 1929-200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5.1 Household Net Worth, GDP and NHE, 1929-2009</vt:lpwstr>
  </property>
  <property fmtid="{D5CDD505-2E9C-101B-9397-08002B2CF9AE}" pid="3" name="SlideDescription">
    <vt:lpwstr>15.1a | Since 1950, inflation-adjusted health spending per capita rose much faster than per capita household net worth or GDP </vt:lpwstr>
  </property>
</Properties>
</file>