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45C-A364-4D4F-B447-B3D81818E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b | Health Spending per Dollar of Wealth, 195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115C-11DC-4E5C-93DB-1744D712D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F85-11E6-49CE-AA57-B1E414E3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372-A65D-452C-9C10-01427D4D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2E0-403F-4CA4-8D82-BA93A56D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A42-B6C2-4A62-BA61-6C7201B8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AF1-C30B-4D86-87A4-378A5A0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5F9-AA46-491B-983B-28983519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790-04B8-4E91-B8B4-F0A0743D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578-844F-4984-BB39-0013A263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F0A-4B41-46E7-B742-AFF92C60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E4D-5628-4AC6-A1C9-83539D2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BFB-AC7B-4F3B-B161-8CC0619D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558-34DD-4EDC-968E-BE46F88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2052-E90C-4F6C-9AD1-45AE89F20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b | Health spending per dollar of wealth has almost quadrupled over 6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lth spending per dollar of net worth held by households and non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b | Health spending per dollar of wealth has almost quadrupled over 60 years</dc:description>
  <dc:language>en-US</dc:language>
  <cp:lastModifiedBy>Jia Yao</cp:lastModifiedBy>
  <dcterms:modified xsi:type="dcterms:W3CDTF">2013-09-06T15:26:01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b | Health spending per dollar of wealth has almost quadrupled over 60 years</vt:lpwstr>
  </property>
</Properties>
</file>