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3B73-7200-49DF-9A8B-7A09471F6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B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C204-1F18-4F04-B3CE-2974C8964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E0F-333F-4109-B9ED-A5548A0C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BF2-B2C1-4D51-A47D-4EB4CF2B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6DA-191F-4A9A-8017-98F67395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AFF-7CB8-4C86-88E6-7C0B93C5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FCB-6BF7-4D33-8689-B7A31E75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08A-BFD5-4297-8874-4E02258C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538-8A21-46A7-9B62-AC9C8CAD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A1F-C6D4-43C7-932B-A51A0ED1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C7F-6AB1-4A25-965E-2AC5D5D4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708-CA2A-4403-9FA7-1458DB5E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47A-8A9B-4B95-9220-577C39C6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552-B32A-4852-B44E-72A4B48F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E172-1F6E-4B20-896E-3074E90D7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6.3b | Unemployment rates among females working in health services, but not hospitals, are higher than for females overall; this has not always been tr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b | Unemployment rates among females working in health services, but not hospitals, are higher than for females overall; this has not always been true</dc:description>
  <dc:language>en-US</dc:language>
  <cp:lastModifiedBy>Jia Yao</cp:lastModifiedBy>
  <dcterms:modified xsi:type="dcterms:W3CDTF">2013-09-06T15:28:52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b | Unemployment rates among females working in health services, but not hospitals, are higher than for females overall; this has not always been true</vt:lpwstr>
  </property>
</Properties>
</file>