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D23-7DFB-4CB6-92FF-E5CFCF4C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132-7BD1-445F-8F7F-3CEE6035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84D-FA8B-43B7-94B5-605AD53D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FFE-D3E3-4BB4-AF75-6A4A1F19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AC2-BD82-4FCA-A25D-2768763F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DD8-681A-4A24-8854-221C44D4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F09-C947-4F57-9C34-0D9027E8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99A-1C56-42FB-A6FC-706E03CF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49B-E5D4-4513-8702-FA63E248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F7C-D161-4847-86F1-B4E584DF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DEB-568D-4798-8412-7698D16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E14-7FF6-4675-A3A2-72BF5D6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D993-9665-481B-9232-39BA30940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5Z</dcterms:modified>
  <cp:revision>37</cp:revision>
  <dc:subject/>
  <dc:title>PowerPoint Presentation</dc:title>
</cp:coreProperties>
</file>