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185A-423B-48A7-96AB-3BA70B6F1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3A | UNEMPLOYMENT BY SEX, OCCUPATION AND INDUSTRY, 196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207E-1DCD-43C3-978B-1EF490413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A5E1-6084-4E25-8975-A5585480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1294-5162-47E1-90C0-FB16C858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AA3-6782-4B0A-A487-276D0890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6354-F09E-475A-A0C9-A1569944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C5C2-A136-4FD4-955C-6517ADBF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B3B9-AB3B-4497-A0A6-F2904B95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CC2-30D2-436F-87E3-1A8AE6A8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ADF-F36B-4E7D-A4F0-2CD9DC39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1A3-44F9-4533-8F89-1F898018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B6C3-E898-47C8-9486-4FFA2D94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DE32-89AC-4FFD-A657-11383B08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E52-FC9E-48B9-A23B-F8C2E1CD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364F-8821-4FB2-8245-F9F0E484C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3a | Unemployment rates among males working in health services are lower than for males overall; this has been true for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749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unemployment rate within industry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09480" y="5715000"/>
            <a:ext cx="802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Unemployment figures are for experienced workers only, not new workers 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ose reported as being "Not in Labor Force" because of school, an inability to fi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, or other reas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3a | Unemployment rates among males working in health services are lower than for males overall; this has been true for decades</dc:description>
  <dc:language>en-US</dc:language>
  <cp:lastModifiedBy>Jia Yao</cp:lastModifiedBy>
  <dcterms:modified xsi:type="dcterms:W3CDTF">2013-09-06T15:28:10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3a | Unemployment rates among males working in health services are lower than for males overall; this has been true for decades</vt:lpwstr>
  </property>
</Properties>
</file>