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B57-98FC-4905-8F2F-2D57117E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A80-B1ED-4D2D-BCC2-F13A9D1E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2AC3-FB39-43DD-8E63-41DED30B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BFD-649C-4F6D-874D-12FDD7A9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919-CFAC-4B8C-B414-EC0640A4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641-F955-44C6-9225-CBA7362A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DD7-5DC3-4EAE-B95A-C335BCC4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1FB-AB0D-4861-AB80-D36945F9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268-D689-4AB7-AD6E-2D7DB67C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8BC3-BF8F-4778-8CBE-CBF42BF3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F15-0942-4E6D-9245-68461958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246-039B-4183-94E2-1608EACD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1E22-21A1-4993-AD2E-941FB2B36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3080" y="152280"/>
            <a:ext cx="89978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6Z</dcterms:modified>
  <cp:revision>37</cp:revision>
  <dc:subject/>
  <dc:title>PowerPoint Presentation</dc:title>
</cp:coreProperties>
</file>