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06B-3BD7-4A39-8F7D-515940AB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6DE-1BB8-4C25-A8EB-D3DE456D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F38-338C-4346-A28C-E4E8E637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15F-C111-43E5-8C9A-87718EC9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A6E-09E7-49F3-9927-1C2726DA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266-1802-4D24-9CBE-CF8C31F9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228-0959-440B-8B26-823FE7F5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9D2-FFFD-49F4-9E15-4EBD5B13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496-E014-41E7-9F85-E67DC721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865-8E13-48BA-BD03-3CEE1D26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BF1-06EE-4651-BF30-4E41B2B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3EC-396D-4943-BC30-EA669B99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9E2E-8C1A-477F-B5B4-1E2AB177F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240" y="76320"/>
            <a:ext cx="906444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4Z</dcterms:modified>
  <cp:revision>37</cp:revision>
  <dc:subject/>
  <dc:title>PowerPoint Presentation</dc:title>
</cp:coreProperties>
</file>