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BC9C-E5B9-4245-B9C4-E742983441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4 | SOCIAL BURDEN OF POOR HEALTH IN AMERICA, 1963-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D6E7-0E86-4E66-800D-F486C0D6D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2709-FBB0-497E-A72D-297F49727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008D-CC3F-4231-8D44-E330A0B0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2166-8EF9-4189-83FB-6C7A3D7BD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E80F-0C9A-4EF9-B9DB-28EAAC59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C33E-A423-4679-B732-806D2310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1B85-0456-4102-A807-8D17A1CF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B20C-77C6-4F0C-801E-1382411A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BF9A-F695-4E43-95B0-6515FD93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2C4F-1D03-46A7-9DED-6A482C91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56C7-4939-4124-BC44-AFCCFF78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6C2E-D922-417F-86A5-71034782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4033-23FB-43B6-9679-8E8B2C49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8CA7-F5EB-4832-90B8-B47BDBBB0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7.4a | The economic burden of illness has risen since 1963 even though loss related to premature death and morbidity have decl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609480" y="16002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conomic Burden of Illness as a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09480" y="571500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rect losses = national health expenditur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rbidity losses = lost earnings due to illnes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rtality losses = lost earnings due to premature death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4a | The economic burden of illness has risen since 1963 even though loss related to premature death and morbidity have declined</dc:description>
  <dc:language>en-US</dc:language>
  <cp:lastModifiedBy>Jia Yao</cp:lastModifiedBy>
  <dcterms:modified xsi:type="dcterms:W3CDTF">2013-09-06T15:31:24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4a | The economic burden of illness has risen since 1963 even though loss related to premature death and morbidity have declined</vt:lpwstr>
  </property>
</Properties>
</file>