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C505-77B6-4C43-AF8E-6A77E928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F83E-E549-4246-A570-E6C7AA16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7B5-0D43-48DA-83B7-FBF41DD2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C4F-F847-410D-B913-53A1B99B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61C6-6374-4D3E-B878-A956A95B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C47-03F4-466D-8C1A-B8966B50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C70C-70EC-4B81-9AC7-4063F54F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80F-B7A8-4D07-ADAF-C4333AC6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65CC-48A3-44D3-A36B-7226D9E0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421-7D2D-4751-97D7-A3AF7D2C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DED-AEC2-4330-8265-2CD6720C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E45-C2D9-484B-B6C4-A99DA4C7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7548-3AFB-440D-BA4C-3A5BE904E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69880" y="0"/>
            <a:ext cx="800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3Z</dcterms:modified>
  <cp:revision>37</cp:revision>
  <dc:subject/>
  <dc:title>PowerPoint Presentation</dc:title>
</cp:coreProperties>
</file>