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4E6F-A0A2-4EE8-A5A0-03EEAB467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3 | PERCENTAGE OF AVERAGE ANNUAL GROWTH IN REAL PER CAPITA HEALTH SPENDING ATTRIBUTABLE TO VARIOUS CAUSAL FACTORS, 1960-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88BA-A005-4AA6-8E45-2FE41458B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BDD-19A2-479F-A673-004D7296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658-7892-46D2-B2D0-44B9B642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6C2E-6E95-4020-9F67-ED982448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D448-0205-4576-92A5-8743F359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708-BC15-47D7-B28F-35FD5297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B48-2773-42D1-8B63-FD767DA5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755-62AD-44E7-989B-7B995455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3A0-278F-43DA-84F8-42A895EF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A0A-E135-4CAE-8B5F-E029B5AA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7D6-82FE-43D4-B4B4-AD6736B7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EDE-C4AD-4942-9A64-4AA7171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2C2-1B76-4165-8259-7C40F41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659-4E82-4D22-A146-F1DDE035A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3 | Technology and other factors may account for 25 to 60 percent of the rise in real per capita health spending from 1960-200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664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838080" y="5916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Smith S, JP Newhouse and MS Freeland. Income, Insurance, And Technology: Why Does Health Spending Outpace Economic Growth?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; 28(5):1276–8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3 | Technology and other factors may account for 25 to 60 percent of the rise in real per capita health spending from 1960-2007</dc:description>
  <dc:language>en-US</dc:language>
  <cp:lastModifiedBy>Jia Yao</cp:lastModifiedBy>
  <dcterms:modified xsi:type="dcterms:W3CDTF">2013-09-06T15:31:22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3 | Technology and other factors may account for 25 to 60 percent of the rise in real per capita health spending from 1960-2007</vt:lpwstr>
  </property>
</Properties>
</file>