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D29-B414-41D9-9901-04357192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8F4-5D05-4EAF-82FE-594B21E6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197-E30D-4C06-ACB1-58FCCFA0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946-9A27-43E2-B694-2243C8A5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AC9-B400-4F20-875E-CEEB4F8C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8A0-E2E0-4163-B263-056D8EA2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3B63-7873-4977-9BA5-80A3D40C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FFD-AC84-432B-A1E7-6C9967FA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A1D-1AAA-4D1A-96D7-2123B840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498-10CD-4404-8033-B98EB0FE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814-8079-4876-B6CB-86628E65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54F-8D29-473B-B0F4-19F378A9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2198-CF8C-4ADF-A905-13D088A56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69880" y="0"/>
            <a:ext cx="800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3Z</dcterms:modified>
  <cp:revision>37</cp:revision>
  <dc:subject/>
  <dc:title>PowerPoint Presentation</dc:title>
</cp:coreProperties>
</file>