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EF2-F1CD-48C6-9BF2-0E36395C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DE1-E9AB-4097-9414-96885029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4053-9759-49D2-9D0D-FBA939A4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BAD-399C-49E4-8C81-BEBBF13C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DA0-C859-4104-92BA-DB4BA7DE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378-1FBC-44C9-AA73-ED7F866F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F03-BD22-4545-AD1E-207683DB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EB58-6EB5-460D-A427-105484C8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8DE-A0C5-4B8E-8A88-2EC29CD2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812-100F-4CBD-A099-0B1C83E8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E52-E5F3-4111-8B03-1A782186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213-6129-481F-99D4-21A1FA6D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6CEE-85E1-4190-9996-40162077E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304920"/>
            <a:ext cx="9131400" cy="62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1Z</dcterms:modified>
  <cp:revision>37</cp:revision>
  <dc:subject/>
  <dc:title>PowerPoint Presentation</dc:title>
</cp:coreProperties>
</file>