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060D-11D3-46FB-8A50-76C1B6136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3F2E-AD1B-4106-8DD4-D7307A8ED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E29B-D211-48F0-8A10-45E34E37C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822B-1934-4A3C-8FA9-C86342C7A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AED3-6325-411F-8921-79BF8640E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76C9-7BAD-4B55-BF20-BB66DC63E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FFC4-8B48-4734-A78A-BF17FDE9B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3F11-398E-4DBC-AAC1-0B460B5FB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30BC-F167-4348-B6F0-849BCBF96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FEDB-0DBA-49D6-988C-2B05F0538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133F-0E27-4B3B-9A90-3662D572C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A3EB-CFBF-44CE-8803-1ED1AD01E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5C1EE-DFAD-4E43-B555-8277063EB0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165240" y="0"/>
            <a:ext cx="8813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9:42Z</dcterms:modified>
  <cp:revision>37</cp:revision>
  <dc:subject/>
  <dc:title>PowerPoint Presentation</dc:title>
</cp:coreProperties>
</file>