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6D91-EBDD-4147-A306-07B306A2E4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2A | ALTERNATIVE MEASURES OF PRICE INFLATION FOR HEART ATTACK TREATMENT, 1983-199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3A77-BB11-4100-BFBB-50F4250A0A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D271-EE16-45B7-B75C-05CF21A2E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A0B9-63E2-4C1F-B922-5EF36930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3D0D-D240-46F8-988F-67A584A8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F232-BC7D-4430-B113-85F20876E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BB4B-B340-4A04-B490-07CBDE75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C082-F13A-4FAC-BD9D-E2FE73D5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D243-13FF-4A2D-9D33-E262CF3D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AEB1-E39E-4E6A-B4A9-1E175453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BEF4-D4F8-4311-B6F7-1B0A4A9D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082A-AD57-4AB9-BC60-2846BE31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F65C-5823-437B-8D43-7B5C8AAB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58A5-B68F-41CB-B046-0AB8CAED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976F-45A1-434C-AAF7-0518887D01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7.2a | The price of heart attack treatment rose by anywhere from under 10 percent to more than 35 percent depending on how prices are measu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788320" cy="4749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1983=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73120" y="579600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utler DM, M McClellan, JP Newhouse and D Remler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ricing Heart At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reatments. Medical Care Output and Productivit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National Bureau of Econom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earch. http://www.nber.org/chapters/c7634.pdf (accessed August 9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2a | The price of heart attack treatment rose by anywhere from under 10 percent to more than 35 percent depending on how prices are measured</dc:description>
  <dc:language>en-US</dc:language>
  <cp:lastModifiedBy>Jia Yao</cp:lastModifiedBy>
  <dcterms:modified xsi:type="dcterms:W3CDTF">2013-09-06T15:31:43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2a | The price of heart attack treatment rose by anywhere from under 10 percent to more than 35 percent depending on how prices are measured</vt:lpwstr>
  </property>
</Properties>
</file>