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66463-D37B-43BA-B317-247B48AC0F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17.2A | ALTERNATIVE MEASURES OF PRICE INFLATION FOR HEART ATTACK TREATMENT, 1983-199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FEC0-1AC2-4003-9CE6-EC74CC1646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416DB-473E-44DB-B049-F50A8AD55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50A3-3D17-46AA-B1D5-11A81C052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C87E0-97EE-47B9-BDEE-F089E1D0D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875E-EC16-488A-AAC3-DF32A2B87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6F14-09C1-45F9-8881-82DA7315C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6CAA-3E8C-4156-A1CD-4D7753DB8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84ED-50E9-4B7D-93DA-B5762EB23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0AD9-817F-4A8C-8DED-1663DEC9A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697A-B96B-4D5C-BE80-C3A122A7E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E1FB-D7E4-48D2-9828-6D6744F9C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D9631-3C3F-4652-BE4C-026C635DE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D16E-AB0A-4E12-9CC8-8A800552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2D587-B4C9-4ED2-9C01-81AF0BA8CE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17.2a | The price of heart attack treatment rose by anywhere from under 10 percent to more than 35 percent depending on how prices are measu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549440"/>
            <a:ext cx="8788320" cy="47498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4"/>
          <p:cNvSpPr/>
          <p:nvPr/>
        </p:nvSpPr>
        <p:spPr>
          <a:xfrm>
            <a:off x="609480" y="137160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dex: 1983=10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5"/>
          <p:cNvSpPr/>
          <p:nvPr/>
        </p:nvSpPr>
        <p:spPr>
          <a:xfrm>
            <a:off x="573120" y="579600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ource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Cutler DM, M McClellan, JP Newhouse and D Remler. 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Pricing Heart Attac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Treatments. Medical Care Output and Productivity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. National Bureau of Economi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search. http://www.nber.org/chapters/c7634.pdf (accessed August 9, 2010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6"/>
          <p:cNvSpPr/>
          <p:nvPr/>
        </p:nvSpPr>
        <p:spPr>
          <a:xfrm rot="16200000">
            <a:off x="-2297520" y="34768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12T15:16:56Z</dcterms:created>
  <dc:creator>Kristy</dc:creator>
  <dc:description>17.2a | The price of heart attack treatment rose by anywhere from under 10 percent to more than 35 percent depending on how prices are measured</dc:description>
  <dc:language>en-US</dc:language>
  <cp:lastModifiedBy>Jia Yao</cp:lastModifiedBy>
  <dcterms:modified xsi:type="dcterms:W3CDTF">2013-09-06T15:31:43Z</dcterms:modified>
  <cp:revision>81</cp:revision>
  <dc:subject/>
  <dc:title>17.1 Net Present Value of Lifetime Earnings and Stock of Health for American Newborns, by Sex and Race/Ethnicity, 2005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17.1 Net Present Value of Lifetime Earnings and Stock of Health for American Newborns, by Sex and Race/Ethnicity, 2005</vt:lpwstr>
  </property>
  <property fmtid="{D5CDD505-2E9C-101B-9397-08002B2CF9AE}" pid="3" name="SlideDescription">
    <vt:lpwstr>17.2a | The price of heart attack treatment rose by anywhere from under 10 percent to more than 35 percent depending on how prices are measured</vt:lpwstr>
  </property>
</Properties>
</file>