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211EA-1F59-4849-865B-5A5F11542D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FB7A-5D38-40E6-A0D4-24E7D1434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6FCB-C89B-4BA3-A493-3D9D58709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5E5-D83A-4CDC-8E57-E8DCEE945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E920-00C7-4515-988E-15E698301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FE66-9DD5-448E-8A65-AC2748A6F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F9505-B9E9-4CB3-854A-9031A9AA8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CA506-0A4F-4D6D-ACCE-DE689C6E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60B3-F61A-49D4-9F7A-A3CEFC929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BDA40-61E0-4FBB-960B-AE8D1C10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D020-6607-4DEB-A214-35DCBF68D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1B7F-7F2A-4D9C-A4E3-52BFE81C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5A3A5-5A92-49F3-BD3C-C86EC7CD87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12600" y="304920"/>
            <a:ext cx="9131400" cy="62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19:41Z</dcterms:modified>
  <cp:revision>37</cp:revision>
  <dc:subject/>
  <dc:title>PowerPoint Presentation</dc:title>
</cp:coreProperties>
</file>