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31F0-A569-4FA9-8051-53B1F5C38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45FA-9A7A-4A44-941D-7255AB740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25B0-AC29-4AAA-BE33-19D2BDD74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58C2-9A28-4396-ADA6-B0A47D8E1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385B2-C0F9-4459-884C-A4A47BF1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D053D-BE17-43D0-8980-B471EF11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65ED-BB8E-40C9-892C-34B2BEEE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FC42-620A-43C3-8E20-8E7ADCC3C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F3692-83A1-4313-A75C-9341D4B90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E7A1A-8999-4F5A-913D-96457689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05BB-C0E9-479D-A762-A704A2D23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A5EC1-D197-4EE2-86B7-9A6603C7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73866-3339-4762-9C62-254D7304831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65240" y="0"/>
            <a:ext cx="881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2Z</dcterms:modified>
  <cp:revision>37</cp:revision>
  <dc:subject/>
  <dc:title>PowerPoint Presentation</dc:title>
</cp:coreProperties>
</file>