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E4C33-27E5-4E5C-9AD0-BE44777ACD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17.2B | Reduction in Daily Cost of Therapy 24 Months After Patent Expir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6D0ED-1F1D-42EA-B56C-766BD766498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6CB27-3C6C-4AE0-AF2C-73B273B2C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1E3E3-0D29-450F-B3AE-A7554DFF9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987BA-A36F-47BA-84DB-54B607933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D8DDA-0524-4AC1-AE87-067D8F61DE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465FB-49FB-4BBE-9BAE-468E8470A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D79C8-42A5-4F0B-B4E5-6486D2BB3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992AA-33AA-403B-9D00-33BF48EB2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7368F-378C-473C-8DEA-00D35126A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A6D54-CAA7-434D-BA84-731A5EC43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8540D-75DE-4AB3-93AA-423C0A88D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693BB-D087-4BD6-BC4C-0816CECA7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C8599-2451-4DE2-A777-3928060EB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2B309-27FE-45D4-B9A8-C5E1FC75F6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rcRect l="0" t="19566" r="0" b="0"/>
          <a:stretch/>
        </p:blipFill>
        <p:spPr>
          <a:xfrm>
            <a:off x="592200" y="1523880"/>
            <a:ext cx="7959600" cy="43862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17.2b | After patent expiration, there has been a 51 percent reduction in the daily cost of therapy after 24 month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Rectangle 4"/>
          <p:cNvSpPr/>
          <p:nvPr/>
        </p:nvSpPr>
        <p:spPr>
          <a:xfrm>
            <a:off x="762120" y="5880240"/>
            <a:ext cx="7619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Berndt ER and M Aitken. A Different Perspective: The AARP Sponsored Schondelmeyer-Purvis Studies. In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Scaring Seniors: The AARP Drug-Price Reports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 American Enterprise Institute. Washington DC. 2010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12T15:16:56Z</dcterms:created>
  <dc:creator>Kristy</dc:creator>
  <dc:description>17.2b | After patent expiration, there has been a 51 percent reduction in the daily cost of therapy after 24 months</dc:description>
  <dc:language>en-US</dc:language>
  <cp:lastModifiedBy>Jia Yao</cp:lastModifiedBy>
  <dcterms:modified xsi:type="dcterms:W3CDTF">2013-09-06T15:31:20Z</dcterms:modified>
  <cp:revision>81</cp:revision>
  <dc:subject/>
  <dc:title>17.1 Net Present Value of Lifetime Earnings and Stock of Health for American Newborns, by Sex and Race/Ethnicity, 2005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17.1 Net Present Value of Lifetime Earnings and Stock of Health for American Newborns, by Sex and Race/Ethnicity, 2005</vt:lpwstr>
  </property>
  <property fmtid="{D5CDD505-2E9C-101B-9397-08002B2CF9AE}" pid="3" name="SlideDescription">
    <vt:lpwstr>17.2b | After patent expiration, there has been a 51 percent reduction in the daily cost of therapy after 24 months</vt:lpwstr>
  </property>
</Properties>
</file>