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DFA7-8001-4132-B210-A846A9E193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1 | NET PRESENT VALUE OF LIFETIME EARNINGS AND STOCK OF HEALTH FOR AMERICAN NEWBORNS, BY SEX AND RACE/ETHNICITY, 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D6C8-EB07-479D-B8B8-45796478F4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C429-108D-4DE6-A0FD-8B8EFF54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75F1-A774-4F21-9FA8-EACBC7F5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AEB0-958E-4E3B-9C96-CB48B5DEC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53AB-3E0C-41AC-9108-0C5E775AF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FC3F-E828-4860-98F4-EC9A720E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FD7B-04E5-441E-9234-E621178F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3D38-4158-4AFF-96B2-3A59CF67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B349-D2D7-487A-9AE7-F25365C1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1C15-657A-4788-AEC8-E92BCBA9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1AA6-2F97-4363-A8D2-8E9260D4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8285-B7E8-4080-A184-32C87E95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C1D1-D43A-4E0E-9C86-7C64AF59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6668-4D6F-48DB-A598-A70F461AD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7.1 | The average American’s stock of health is several multiples of their lifetime earn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et present value using 3 percent discount rate (millions of 2005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1 | The average American’s stock of health is several multiples of their lifetime earnings</dc:description>
  <dc:language>en-US</dc:language>
  <cp:lastModifiedBy>Jia Yao</cp:lastModifiedBy>
  <dcterms:modified xsi:type="dcterms:W3CDTF">2013-09-06T15:31:18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1 | The average American’s stock of health is several multiples of their lifetime earnings</vt:lpwstr>
  </property>
</Properties>
</file>