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7A10-3BAC-4B6E-AA79-50A79B75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0923-F788-410E-A9F7-EC10525B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F7E-435F-4D42-B4F6-C8D01BC9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391-5BE1-4AD1-8FF1-EF31FE7B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620-C311-4C77-AE35-E3A53CA1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670-F9EC-4393-A9B7-AEF6E93A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B8DF-9BC4-4AAB-A840-EE10F8EC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95CF-7282-4181-8104-4A05BDF3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38F7-CDBD-41F3-87BB-30420916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97C-D4BD-4228-9299-9C25AFF0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2BC-BD13-4A2F-889A-94DE1CAD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B25E-3679-44A7-B670-929D1607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6819-F439-48EA-AB20-09B188742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9320" y="117360"/>
            <a:ext cx="9094680" cy="65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2Z</dcterms:modified>
  <cp:revision>37</cp:revision>
  <dc:subject/>
  <dc:title>PowerPoint Presentation</dc:title>
</cp:coreProperties>
</file>