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78125-B6F8-41C5-963C-4A066E6215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8.3A | U.S. SHARE OF PHARMACEUTICAL EXPORTS AND IMPORTS AMONG OECD NATIONS, 1980-2006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7F583-8117-4388-86A8-EBBBD4011C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F70F5-C2E5-4FC6-98F1-A33746CD0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2A1D9-6EB9-4EC8-95F9-ACE09ECB8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E7A70-9E27-4DCF-96A3-8367F60C9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BE3D0-067A-4FD3-8AA4-37A6F7928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BB436-742F-4151-A3BA-BC723947D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3AA9E-CDC5-46EE-B3E1-F7A9C5E91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38B99-29E1-49CD-9E71-133BBC702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0B037-A451-4820-841B-6A96960CC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6DDAE-1941-4854-B140-838B8C3AC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B8AB8-3FF4-44E6-9122-5309575BC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F956A-959F-41D3-8CAB-BB43C3B0F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16F7F-9D7F-49F3-8039-5FBFF4477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E9F7E-217F-4E4C-AF7E-77B2F8E012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18.3a | Since 1980, the U.S. share of pharmaceutical exports within the OECD has been declining while its share of imports has increased since 1980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331120" cy="452124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730080" y="1447920"/>
            <a:ext cx="660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U.S. share of aggregate value of pharmaceuticals traded, in U.S. dollars, PP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6"/>
          <p:cNvSpPr/>
          <p:nvPr/>
        </p:nvSpPr>
        <p:spPr>
          <a:xfrm>
            <a:off x="641160" y="6227640"/>
            <a:ext cx="57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OECD.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OECD Health Data 2010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– Version: June 20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7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15T17:43:19Z</dcterms:created>
  <dc:creator>Kristy</dc:creator>
  <dc:description>18.3a | Since 1980, the U.S. share of pharmaceutical exports within the OECD has been declining while its share of imports has increased since 1980</dc:description>
  <dc:language>en-US</dc:language>
  <cp:lastModifiedBy>Jia Yao</cp:lastModifiedBy>
  <dcterms:modified xsi:type="dcterms:W3CDTF">2013-09-06T15:33:59Z</dcterms:modified>
  <cp:revision>5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8.3a | Since 1980, the U.S. share of pharmaceutical exports within the OECD has been declining while its share of imports has increased since 1980</vt:lpwstr>
  </property>
</Properties>
</file>