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F65E-3D70-4CD6-AB20-F16BCF19F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3B | PHARMACEUTICAL PRODUCTS AS A SHARE OF U.S. EXPORTS, IMPORTS, AND NET TRADE BALANCE, 199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C71D-EC95-4DF9-8E07-F756620BF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6E2-606E-48BE-83F9-407AE8D9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5BC-BB86-4DD3-9E9C-746280C2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FC21-8A6F-40B3-AF45-35ABDB01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E852-9788-4B6B-8D1B-D7E1B11A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268D-923F-46F7-85F6-C8E51861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2DAF-6E5F-4F1A-AD0B-42166091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1914-69BE-42BA-AC15-7EF10B74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584-66D8-4E3C-BED8-3F758471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DDD2-D9A1-4B4D-A549-04524814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94EE-098F-4F96-B8F6-817097A6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A222-647E-4484-8043-8B85570A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56DD-26B6-46DF-B2E5-24881C46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4310-F765-487D-960D-E2AF070FD5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3b | The health sector contributes a relatively small share of the U.S. trade imbalance, but it appears to be gro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13520" y="137160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alance of imports over exports as a percentage of U.S. net trade bal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3b | The health sector contributes a relatively small share of the U.S. trade imbalance, but it appears to be growing</dc:description>
  <dc:language>en-US</dc:language>
  <cp:lastModifiedBy>Jia Yao</cp:lastModifiedBy>
  <dcterms:modified xsi:type="dcterms:W3CDTF">2013-09-06T15:34:01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3b | The health sector contributes a relatively small share of the U.S. trade imbalance, but it appears to be growing</vt:lpwstr>
  </property>
</Properties>
</file>