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B97D-7850-4E11-A2CC-00583722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355C-DD1D-4C41-8345-2B52CA6C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08BD-8DB0-4DEF-92AC-4133507B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ECC0-4DAC-436B-9591-8E541B88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C693-59E1-4C41-9838-A958AD97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E66B-BF77-4752-AA15-70E2C88C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90DE-C627-4463-AB3A-D0BBFA68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603C-95B3-49AD-8756-71CBFA8E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74B9-A5BB-422D-8E75-1BCAF155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2CCF-3D6B-47FF-ACB5-D4FD6DA4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EF54-4BF5-4E7B-811C-2D66C7BC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30C7-CAE8-47A1-8F63-ECF26B58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10FD-4642-4AE3-BB6B-3034F3514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9320" y="117360"/>
            <a:ext cx="9094680" cy="65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2Z</dcterms:modified>
  <cp:revision>37</cp:revision>
  <dc:subject/>
  <dc:title>PowerPoint Presentation</dc:title>
</cp:coreProperties>
</file>