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E4A3-9440-4840-994B-22D50F84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16CD-AE99-49F4-8587-ED4D6EBA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372E-62C5-4622-A1A9-A55AAB57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6207-4D09-43DF-8AE5-EA812AA4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BDEB-3266-4074-9CB1-3CB6318F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4A84-202D-4902-ADB5-DF7B7A03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7C54-1E78-4DAF-90B6-E3577078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ED9B-6B90-46CF-BF52-5F23ECBB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40F0-E4F0-440B-8A9E-F4E6D086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F83F-9D41-4163-95BB-F54F1441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C84-5967-47DB-94B1-5142391D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5490-1B8B-4290-9582-C1F5285E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F130-F49E-4E6B-BF1C-EFBBFF1C5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9320" y="117360"/>
            <a:ext cx="9094680" cy="65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2Z</dcterms:modified>
  <cp:revision>37</cp:revision>
  <dc:subject/>
  <dc:title>PowerPoint Presentation</dc:title>
</cp:coreProperties>
</file>