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FCF7F-C23A-451E-8E67-8574AF0B9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2904A-DC6B-4E94-9B6E-A723072C5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646C4-AC60-4274-9832-AAE751DDE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62F7D-6EB6-4952-AAE6-DCDC5A87B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D59A1-2CDC-4919-B1CC-B27C9C17D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7508D-FD2E-4ACE-974C-D46483E78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688D8-CA5B-4AA5-92DD-29556489F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307E1-6F16-4641-A0A4-442AD0236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0F618-2737-41DA-98B0-C30888B6A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97FAB-8BDD-489B-BC04-913C29049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08C79-DC92-4564-92E5-6356DB777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69F4E-3D23-4099-BEB2-C58E8908A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7967F-AAE7-47D7-8660-4776B651D8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166680"/>
            <a:ext cx="9144000" cy="65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0:31Z</dcterms:modified>
  <cp:revision>37</cp:revision>
  <dc:subject/>
  <dc:title>PowerPoint Presentation</dc:title>
</cp:coreProperties>
</file>