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1742-F826-4181-89AF-AD4F9D4D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830B-26B8-44B3-8494-616E819F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9515-E66A-4427-BFFA-DD0906E3C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452D-73FC-4B72-A3A1-88D3735A2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4A03-00A4-4FB9-869D-3F960C37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DB45-BE82-4C9F-899A-A4571054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9EFC-361D-40D5-B57E-4168C6F9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19C0-E994-42B1-B025-603AA5C1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712E-2368-4F55-99D9-2EF4C24D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C9D1-E6F0-4A3C-BF1D-7B434ECF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7D56-34A4-4B93-A246-D9166A75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1469-0A24-4E3E-B715-3372371E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38DE-2506-47D4-9348-36E2B5097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4920" y="22320"/>
            <a:ext cx="856296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29Z</dcterms:modified>
  <cp:revision>37</cp:revision>
  <dc:subject/>
  <dc:title>PowerPoint Presentation</dc:title>
</cp:coreProperties>
</file>