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FECCB-CC87-4FC1-B9F7-0728F85C3C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8.2B | PER CAPITA PHARMACEUTICAL R&amp;D EXPENDITURES AMONG TOP 10 OECD NATIONS FUNDING PHARMACEUTICAL R&amp;D, BY COUNTRY, 1980, 1990, 2000 AND 200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1BBB5-D373-43CC-A908-2F627C10A3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75C1-DAF9-4E4B-AB43-3624A4637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B2A2-8407-4603-92DF-69231F29B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5ED7-4227-491F-AD25-6939160DE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A0A2-0800-4955-BD16-4717B6C85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D62D-6038-45E4-95A3-7D44EA5A3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E4A4-133F-4253-9DDE-F86659CEC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CC8B-286C-4719-BB67-E35CBDB2C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74D7-B740-4677-8B8B-E5968B067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05D0-1EC9-450B-AD6B-C75DBFF80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B24E-1C26-4A7B-A250-A526DF42D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CA3A-0A7B-49AC-B8ED-EDA9CAC66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E071-786D-43DA-B9D2-9A18DE245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5C9DE-7539-4235-BFA6-D70AE0441F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8.2b | On a per capita basis, U.S. spending on pharmaceutical R &amp; D is exceeded only by Denmar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559720" cy="535932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615600" y="1523880"/>
            <a:ext cx="553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 capita pharmaceutical R&amp;D expenditures (U.S. dollars, PPP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6"/>
          <p:cNvSpPr/>
          <p:nvPr/>
        </p:nvSpPr>
        <p:spPr>
          <a:xfrm>
            <a:off x="641160" y="6227640"/>
            <a:ext cx="57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OECD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OECD Health Data 2010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– Version: June 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7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5T17:43:19Z</dcterms:created>
  <dc:creator>Kristy</dc:creator>
  <dc:description>18.2b | On a per capita basis, U.S. spending on pharmaceutical R &amp; D is exceeded only by Denmark</dc:description>
  <dc:language>en-US</dc:language>
  <cp:lastModifiedBy>Jia Yao</cp:lastModifiedBy>
  <dcterms:modified xsi:type="dcterms:W3CDTF">2013-09-06T15:33:57Z</dcterms:modified>
  <cp:revision>5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8.2b | On a per capita basis, U.S. spending on pharmaceutical R &amp; D is exceeded only by Denmark</vt:lpwstr>
  </property>
</Properties>
</file>