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97D-D5F7-44A8-9675-91E068B5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2DA-C3E6-47F9-AF29-05BC073F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9CA-1672-440D-8B50-D229664A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18D-E6D4-4985-8F21-3501A0DC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0A5-19A2-44F4-9BAD-7A187373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E4E-07E8-44AD-87B1-9BA498F7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CCE-8BEA-4741-829C-8707AF00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3F5-759D-4229-B206-F9E4A620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2B7-D7C1-4ACE-98A7-65FA884A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9A6A-7795-4ACC-A35E-AF6D4586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257-C81D-4C1B-88D8-C5C96D12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721-658A-4C53-92AA-AB84AABD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2639-F94A-46DC-AE77-AA18011B8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19040"/>
            <a:ext cx="9085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0Z</dcterms:modified>
  <cp:revision>37</cp:revision>
  <dc:subject/>
  <dc:title>PowerPoint Presentation</dc:title>
</cp:coreProperties>
</file>