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D57C-A01D-4EB3-BD91-C86FDB27A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2CD9-98C4-4695-938A-28239FD15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759C-4CBF-48B7-96B5-4D9D99E7C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3745-B940-4C10-81B4-DA34A4413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9349-9BC2-4CDC-AFA3-7D5E6D8B7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0E20-C25B-4E75-AA60-12C04D0AD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0C54-9485-4D71-8AEE-A8B5B24D5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10D1-FBEE-4ACD-ACF7-04E949633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4648-FD7F-4BAF-8FDE-39DB92092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5B1C-B371-4165-B676-573D0581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CE51-2E03-4E97-BD17-7C02FFDF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088D-878C-4BAA-ADF1-20CDD29A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A86B6-3397-47E8-B664-F3C37BF112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04920" y="22320"/>
            <a:ext cx="856296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0:29Z</dcterms:modified>
  <cp:revision>37</cp:revision>
  <dc:subject/>
  <dc:title>PowerPoint Presentation</dc:title>
</cp:coreProperties>
</file>