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2F0-AE1A-4513-8233-EFACC480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9D7-6C4A-418C-9FB9-766BEB87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BAB-7F0B-4333-BA1D-2FB90256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8CE-A98A-473A-9A1E-FEA2DA09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B91E-CBB5-4CC7-B9F9-8E5C06D1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E22-7F3B-4221-B83A-8018E18D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5AD-2BAE-49FE-B9D5-4D731F52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B49-D69F-4AEF-AD75-FDE32EAC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E8E-62AC-4396-92AA-447F8427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E6C-CB94-4F5E-B936-3AB3E9A5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61E-05F6-463E-A522-97979DF8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AB7-4B0F-4A50-9F04-50DCFBC3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0025-C0C3-4079-B5F0-0780C5F5E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0760" y="0"/>
            <a:ext cx="904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6Z</dcterms:modified>
  <cp:revision>37</cp:revision>
  <dc:subject/>
  <dc:title>PowerPoint Presentation</dc:title>
</cp:coreProperties>
</file>