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ECB-8207-4AD5-9DC1-DA08CEE7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644-59C1-402D-BB1A-9CADF632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C3E-B525-4233-BD72-5820CFC1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1D2-BD65-4131-9CD0-8995FB86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166-1300-465B-A3D0-802D2AD8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1CB-2F93-41F2-B916-87A8EE62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DBB-A81E-4E2B-B904-53AE8D21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0E20-7155-4EA4-985F-AD0AC134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D1E-7626-4715-886F-E1232592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D85-C062-4691-9895-4BEB4EE5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325-D04D-4D9C-9E7D-B094FE98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9AA-83FB-47B2-AB30-DBEE11FD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16E8-FAED-4C58-82A7-0A4ECAF88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355680"/>
            <a:ext cx="9107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7Z</dcterms:modified>
  <cp:revision>37</cp:revision>
  <dc:subject/>
  <dc:title>PowerPoint Presentation</dc:title>
</cp:coreProperties>
</file>