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330D-9378-4770-AAA7-9CB5D93B84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1A | TOP MEDICAL INNOVATIONS BY COUNTRY OF ORIGIN, 1975-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59C9-1BB0-4CB3-AF11-D8AB388E8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EADB-4EBC-4DF7-B15F-848817DA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F4A2-EBB6-4501-A395-94F988EB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0743-ACCA-452F-89A5-EEA5AD7D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195A-D204-4E7C-BFAB-B0C6E703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9A42-04CD-4CCB-A700-B89A4654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2DEC-B229-41C3-ACA6-65ECE605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2A07-2583-435B-8829-2B868F61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C205-FE10-4661-8DD2-1D9461F2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6520-3C8A-4A14-8688-9C79DCB0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F57E-78AD-4842-BE91-4AF86174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2CBC-2809-4962-A3E1-D96AD5F3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FEA8-CD1C-403C-A2E4-E2B8BD55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B8EA-BFB8-4D4D-8A4B-8777C03E0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8.1a | The U.S. has less than two-thirds the population of EU and Switzerland, but has produced about 50 percent more top medical innov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549440"/>
            <a:ext cx="92455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49800" y="1600200"/>
            <a:ext cx="40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top medical innovations, 1975-2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41080" y="575928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Whitman G and R Rand. Bending the Productivity Curve: Why America Leads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 in Medical Innovation. Cato Insitut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olicy Analysi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654. November 18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. http://www.cato.org/pubs/pas/pa654.pdf (accessed August 10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1a | The U.S. has less than two-thirds the population of EU and Switzerland, but has produced about 50 percent more top medical innovations</dc:description>
  <dc:language>en-US</dc:language>
  <cp:lastModifiedBy>Jia Yao</cp:lastModifiedBy>
  <dcterms:modified xsi:type="dcterms:W3CDTF">2013-09-06T15:33:51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1a | The U.S. has less than two-thirds the population of EU and Switzerland, but has produced about 50 percent more top medical innovations</vt:lpwstr>
  </property>
</Properties>
</file>