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9AB1-01FC-4189-99C0-684CAF3C0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A | TOP MEDICAL INNOVATIONS BY COUNTRY OF ORIGIN, 1975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2EF9-E86F-4637-ADA6-F2F1EE1C9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148-5106-4E7C-A6C4-66C7BDC8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761-5B50-423D-8B83-9B2A6656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77F-8AF4-401F-A514-E58BA9F2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35C-8DCC-48E4-9020-B03663BE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111-BF24-4421-B114-B5421041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A55-0827-4F01-BC18-9C31FB48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01B-6A5B-4F27-ABCA-AA64771C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B34-07AC-4867-951A-6AB43BE4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76D-05BF-43B6-940F-54A17EE5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1E0-AC36-4880-9393-25BEB7C2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029-7CE6-4D1E-B726-A74EE992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10D-1696-4C31-91D7-EBDC0E1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E2B1-283D-42A4-85E0-7EFBE73CD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1a | The U.S. has less than two-thirds the population of EU and Switzerland, but has produced about 50 percent more top medical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92455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49800" y="160020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medical innovations, 1975-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a | The U.S. has less than two-thirds the population of EU and Switzerland, but has produced about 50 percent more top medical innovations</dc:description>
  <dc:language>en-US</dc:language>
  <cp:lastModifiedBy>Jia Yao</cp:lastModifiedBy>
  <dcterms:modified xsi:type="dcterms:W3CDTF">2013-09-06T15:33:5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a | The U.S. has less than two-thirds the population of EU and Switzerland, but has produced about 50 percent more top medical innovations</vt:lpwstr>
  </property>
</Properties>
</file>