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3103-8B68-426E-9BF4-726FC8B1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B885-0E64-4543-82C6-19345664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5555-0AA5-474B-BF2E-18C2CCD7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AEB9-447F-4178-96C1-E33B76B0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3362-57C0-4F85-B474-84162ED3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A7DC-B35B-4D6B-9568-277561CD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E5D5-2B09-4822-BFD6-393A8F17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ADA8-1478-49F3-8FCE-445833B4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16B4-DDE0-4B52-99B7-9BF53D27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2FC4-8605-4D72-BEA4-5429C0AE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2BF0-6592-44AF-858D-FA978792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98FA-C035-465F-9735-42DD0073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EB49-D050-42CF-924A-4A8B9FD8A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0760" y="0"/>
            <a:ext cx="904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26Z</dcterms:modified>
  <cp:revision>37</cp:revision>
  <dc:subject/>
  <dc:title>PowerPoint Presentation</dc:title>
</cp:coreProperties>
</file>