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7A3-582C-4996-B364-3C4E3936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211-1C28-4D5F-8BCF-5E97EF86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5FE-5722-4AB6-8A0F-B94B3126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533-9BC0-4A33-92EB-3099B9E7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1C2-680E-40DF-91DD-5382DD24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CBB-4F4D-4D2F-9091-366BEC7F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B10-3290-4324-85EE-CA75D5E0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5C8-638E-44C1-A422-2B90AC6B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FE4-A314-448A-A720-6E913FA2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3E3-9908-4A27-8AEA-AA5E9919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828-B6E4-4153-9DEA-E9707430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CD6-4ED2-4E55-A986-5F9098BB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E629-BE34-4477-87BD-4533526FE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228600"/>
            <a:ext cx="900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1Z</dcterms:modified>
  <cp:revision>39</cp:revision>
  <dc:subject/>
  <dc:title>PowerPoint Presentation</dc:title>
</cp:coreProperties>
</file>