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577AE-05CC-4C2D-BCDF-052D4B1101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81848-BB0A-4A4A-9EAD-5641D425FC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1397-61BD-4C33-BC64-A9A24160B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3026-0C15-47C6-AF03-C1A9A20D4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0614-B158-4EE1-817E-2CCF5C59D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EB33-A7CE-410B-8039-B145CED3E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2F51-4640-4BC1-B57D-7312EF747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69CC-225F-4CF4-9C17-81C2C6E1F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29C1-42AD-4B22-B30C-3AA6AB4EA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A38C-932C-4EFE-B2BE-335DF43A5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9028-AB43-44EA-922B-AC4E9FB30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953C-1951-447D-B9DF-F7435B5C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2822-9AB5-4F24-BBC9-6E4635954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F6FF-C0BE-43FC-8237-881F9DA62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B3808-0D6C-49C7-878C-7426AA1227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http://aas4064.asadmin.duke.edu:60620/results/C/Users/lc135/conovermapchart11_a.png"/>
          <p:cNvPicPr/>
          <p:nvPr/>
        </p:nvPicPr>
        <p:blipFill>
          <a:blip r:embed="rId1"/>
          <a:stretch/>
        </p:blipFill>
        <p:spPr>
          <a:xfrm>
            <a:off x="1219320" y="571680"/>
            <a:ext cx="6705360" cy="5029200"/>
          </a:xfrm>
          <a:prstGeom prst="rect">
            <a:avLst/>
          </a:prstGeom>
          <a:ln w="0">
            <a:noFill/>
          </a:ln>
        </p:spPr>
      </p:pic>
      <p:sp>
        <p:nvSpPr>
          <p:cNvPr id="49" name="Title 2"/>
          <p:cNvSpPr/>
          <p:nvPr/>
        </p:nvSpPr>
        <p:spPr>
          <a:xfrm>
            <a:off x="1523880" y="685800"/>
            <a:ext cx="6096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5.11a--State Health Rankings, 2009 (United Health Found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itle 2"/>
          <p:cNvSpPr/>
          <p:nvPr/>
        </p:nvSpPr>
        <p:spPr>
          <a:xfrm>
            <a:off x="1676520" y="582480"/>
            <a:ext cx="579096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9.15b | State Health Rankings, 2009 (1=Best) (United Health Found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8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9"/>
          <p:cNvSpPr/>
          <p:nvPr/>
        </p:nvSpPr>
        <p:spPr>
          <a:xfrm>
            <a:off x="638280" y="5759280"/>
            <a:ext cx="8177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United Health Foundation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America’s Health Rankings 2009: 20th Anniversar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Edit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http://www.americashealthrankings.org/2009%5Creport%5CAHR2009%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nal%20Report.pdf (accessed June 15, 2010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/>
  <dc:language>en-US</dc:language>
  <cp:lastModifiedBy>Jia Yao</cp:lastModifiedBy>
  <dcterms:modified xsi:type="dcterms:W3CDTF">2013-09-06T15:41:34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/>
  </property>
</Properties>
</file>