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382-11C6-4151-8EEC-D100E127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A628-D3AA-4FC6-9931-83C28EB0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D67D-7586-4693-8FFD-5D11B891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BF6-D55F-4F85-A0B9-21918B45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E34B-6F47-4ECB-AD20-15C4C41F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C5CD-D539-4A23-9B5A-14073157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6971-078C-4B76-AE29-B9A98F59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522-FBC7-493B-B0DA-B994A2FB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199-342C-478E-B6F3-CEDFE3FA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7168-F856-4672-A585-B99F7F2D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A08-F47E-40F2-91C9-D77B3701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526-0BE7-4C6C-A30C-4D71DDD3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C697-1D33-4030-9671-729059779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7240" y="76320"/>
            <a:ext cx="9086760" cy="67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50Z</dcterms:modified>
  <cp:revision>39</cp:revision>
  <dc:subject/>
  <dc:title>PowerPoint Presentation</dc:title>
</cp:coreProperties>
</file>