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8746-BE37-4AA0-AA8C-339F8DE31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5A | SELECTED MEASURES OF HEALTH SYSTEM PERFORMANCE, BY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ACF5-F703-4923-B886-0DA5C60F9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28C-A349-4B2F-9A5D-026A05BE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3C0-1F13-4309-8619-A5A7EB5A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749-3F5A-4390-9366-A990FA8A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6D5-DE92-4714-91F1-1D486BCC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ACA-0465-4EDE-AB1A-E5954F10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7FF-3B91-4784-8C20-37D7F71E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2E7-6780-480C-BB20-955E2E66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130-E217-4B88-8849-8DAEF88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3F6-3FC7-4B81-9237-DD5025FD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C3F-6DD5-4FCA-ACD2-FC6BF967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999-A923-427F-9FCD-1C78C32C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EAC-C5A2-4FED-9A8F-8B23766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62F8-A6C3-42C5-ACD4-54D5DB9A3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5a | There are large differences in health system performance across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38280" y="56386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3064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5a | There are large differences in health system performance across states</dc:description>
  <dc:language>en-US</dc:language>
  <cp:lastModifiedBy>Jia Yao</cp:lastModifiedBy>
  <dcterms:modified xsi:type="dcterms:W3CDTF">2013-09-06T15:41:3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5a | There are large differences in health system performance across states</vt:lpwstr>
  </property>
</Properties>
</file>