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991E-C272-4FD7-AF8E-F1D0C5EC1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4A | MALE OBESITY RATE, FEMALE OBESITY RATE AND ADULT SMOKING RATE, G7 COUN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1DA-5482-41B9-9209-CA2D3E818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E7C-9F8C-4068-BE0D-433C4129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C35-7B54-403E-9A42-1B314EEE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15D-409A-4853-96F2-D620D4AA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EA3-241B-456F-B113-426262D2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B50-89E1-4E2C-8AC1-47529666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44B-24F6-43F9-B67A-F4F2C530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C2E-C6AB-432B-9C3E-03640CA8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E54-73D8-4810-9DF7-5FC57C3D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65A-62A7-40D8-9358-4AFBF209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CE6-7A11-476F-8F4A-29D90FBE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EC5-3310-429C-A9C9-59F4DEF7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335-01E9-4497-8F10-D3CB302B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4D7-E72B-4947-A5D5-7D8211696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4a | The U.S. has far higher obesity rates but much lower smoking rates than its major G7 compet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Adults Age 15 and 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311840" y="586728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measured obesity rate.  SR = self-reported obesity r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4a | The U.S. has far higher obesity rates but much lower smoking rates than its major G7 competitors</dc:description>
  <dc:language>en-US</dc:language>
  <cp:lastModifiedBy>Jia Yao</cp:lastModifiedBy>
  <dcterms:modified xsi:type="dcterms:W3CDTF">2013-09-06T15:41:2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4a | The U.S. has far higher obesity rates but much lower smoking rates than its major G7 competitors</vt:lpwstr>
  </property>
</Properties>
</file>