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5681-0D59-451D-9C26-51A4BC67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CEB1-8F54-4EDD-A33E-821CF7B2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DBE1-4B21-45E0-8492-27E7B5F0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3BAE-D926-4D24-8B9B-EDA4583E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3AB2-2DAA-48AF-BB6C-69096218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8EA-63D1-472C-876D-F64FE431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9415-C768-4B73-A1CF-F825CAF4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1E4F-F660-4A04-9F6A-9CBC323C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5BC2-BBC7-40A4-8036-59F5FAC7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91F-114E-45CE-A339-D160737C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9E6E-E66B-4579-8828-A1A100F3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348C-EE55-44C8-8E65-0A8FA6E7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C1CB-9FC6-4C17-BD40-761712F7F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203480"/>
            <a:ext cx="895824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6Z</dcterms:modified>
  <cp:revision>39</cp:revision>
  <dc:subject/>
  <dc:title>PowerPoint Presentation</dc:title>
</cp:coreProperties>
</file>