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44D36-93D6-41D1-AD9B-1A411E165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416F1-831F-4E41-B5D2-2D8F9A4D5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DF7C8-F2F7-40E8-814B-E968E4530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F210D-F236-48FE-BEEC-C85E85E2E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4449C-3FFB-4A49-8E44-411E2D976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5229D-8A61-49EA-A03D-DFDDA7FF0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C5873-E8D0-417F-ABDC-E5895FF6B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8CEBD-D165-456C-8095-69E27084D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971E1-B56E-4800-8162-262B0513B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10211-FB44-465A-9C6A-E76E73D0D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239A3-DFA6-47D6-87EE-282E7B08A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0DA0C-960A-43E3-824B-CB9B67177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C2262-1D38-4472-AE68-6972479FA2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63360" y="1295280"/>
            <a:ext cx="901728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1:47Z</dcterms:modified>
  <cp:revision>39</cp:revision>
  <dc:subject/>
  <dc:title>PowerPoint Presentation</dc:title>
</cp:coreProperties>
</file>