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8353-083F-4D04-AFC0-64335E3C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0C32-781A-4AB5-9627-BAFA3BE1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EF5E-73DE-47A0-96F5-FAA889F1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AFC9-BE83-4EA8-86FB-92230CD9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922A-AC11-40C6-B517-C55C6249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039F-ED47-4A8E-8A82-C06C5A32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B1C6-ECB6-4356-AC8F-E30D56EB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B1CF-EAC7-4822-A676-3C277363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3157-B974-4E7B-B41D-2A6F4D7D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94FF-0B80-41A2-B2AA-0D4D9EF2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0C2A-E010-4883-8645-38C4F9B5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459F-D9CA-4F8A-B105-A0BB1E75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BF5C-A186-42A7-AA86-E1A4C8265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1295280"/>
            <a:ext cx="8925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9Z</dcterms:modified>
  <cp:revision>39</cp:revision>
  <dc:subject/>
  <dc:title>PowerPoint Presentation</dc:title>
</cp:coreProperties>
</file>