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6E5-0E01-46AF-BC40-FD5E1F9752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B | ESTIMATED DEATHS IN UNITED STATES, BY UNDERLYING CAUSE, 2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E1D9-E884-45EB-9851-97C28249D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1296-4913-409C-BF07-F4D58734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2EE-77EB-434C-AE19-D6985154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A60B-B7CA-48B3-A438-5CD10E3D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597A-A10B-4842-8383-EDF8ADFF8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FA85-3D60-4DDE-9543-536039E8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BDF8-D54F-4B9C-9B6D-883F369B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701-BC59-441E-B621-E74573D7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B253-8A61-4FED-ADA5-AAB85B90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CF00-7190-4EEB-AE29-6DAB9DBF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7B4-2379-4775-9F81-CA8963A5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FF8E-D719-4C87-B116-83CC512C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D56-61E6-4552-AC1A-D9DECDD4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9B3CD-48D8-4C73-AF99-6D1742872F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b | Changes in behavior/lifestyle would have a sizable impact on mortality rates in the U.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77840" y="1092240"/>
            <a:ext cx="9016920" cy="5435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5181480" y="617220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U.S. deaths (200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b | Changes in behavior/lifestyle would have a sizable impact on mortality rates in the U.S.</dc:description>
  <dc:language>en-US</dc:language>
  <cp:lastModifiedBy>Jia Yao</cp:lastModifiedBy>
  <dcterms:modified xsi:type="dcterms:W3CDTF">2013-09-06T15:41:24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b | Changes in behavior/lifestyle would have a sizable impact on mortality rates in the U.S.</vt:lpwstr>
  </property>
</Properties>
</file>