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BE7C7-6CF5-46C4-ACDF-8BCD66C1C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39743-EEE1-4186-8923-0BDA429A3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D1F01-4020-4A50-9104-9BFCBF722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B7032-110F-4C64-AAE3-137E44814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8278D-D946-4997-B45D-17DD5FD2C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ED94C-B011-4E86-B1B3-512AE7ED0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8E0EF-BB26-4580-8262-C8B54AD34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F016A-0132-4493-AD52-CBD10DF1E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3F28C-D716-480A-9F09-3DB097D6D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3BD72-A33F-4E0E-A269-FFC8B63E9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53F22-1934-45D3-98B9-AEFEAB210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CEC7D-31B7-4CC4-AE70-C11CF4437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54E3C-C2C7-4048-AD77-7D1DF4D412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57240"/>
            <a:ext cx="9144000" cy="67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1:45Z</dcterms:modified>
  <cp:revision>39</cp:revision>
  <dc:subject/>
  <dc:title>PowerPoint Presentation</dc:title>
</cp:coreProperties>
</file>