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4E8E-1E23-4753-ADFD-82FEBADFA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1E71-8D0D-472C-B806-CE390CA63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A162-B8C4-45C3-BECE-D9CCBDF24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B4B8-8510-4648-996D-4C3F0985C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ACB5-10C9-4538-8A4B-7D830D7D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342F-17DF-491E-B45D-1BD752C9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69FC-5FD9-442B-9A33-AC2EBFE0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0D09-64CE-4F61-B329-B5203118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439D-F0DA-4BB7-9CAF-9F174FCA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432E-9810-4BB6-8D8B-FBCC81D9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A551-85A1-4D43-9724-E5A3C48F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BDB1-5D26-4BBE-AA95-F9F9485D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27B1-9AC4-4319-9C9C-1F65F79132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1400" y="152280"/>
            <a:ext cx="90612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1:44Z</dcterms:modified>
  <cp:revision>39</cp:revision>
  <dc:subject/>
  <dc:title>PowerPoint Presentation</dc:title>
</cp:coreProperties>
</file>