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E06F-349B-4CBB-AF8F-744A03838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9.13A | MAJOR DETERMINANTS OF PREMATURE MORTALITY IN THE UNITED ST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3462-CBB0-47C4-BBEC-26B1E54E8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2E0F-1E7A-4CF6-B3EE-5E9ACB988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8D79-FBCD-4E3E-9190-A5AD4EB3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7F1-BD95-465B-A396-295C2841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872-79CD-4F4F-AC90-57304E17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6C4-5B74-4E43-BAED-076B605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B1A-21B9-4FAD-A5FE-964C7E7A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7831-F321-4391-A19C-1E3302C8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90B-D890-4669-B9B1-2F9F1856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6C6-D6AC-4F8A-A824-D25E4366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7DB6-E295-4C2F-943E-0D673579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9EDB-B6EB-4F63-A009-BC6EAA01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A9D-FE10-4FB6-8351-8032CBFC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22C7-9006-402C-B6C6-C49D1AA67C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9.13a | Roughly half of premature mortality relates to behavior/lifestyle; only one-tenth relates to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329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15200" y="2971800"/>
            <a:ext cx="182052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j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termina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em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rta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484920" y="5827680"/>
            <a:ext cx="86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 Department of Health, Education and Welfare. Office of the Surgeon Gener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Healthy People: The Surgeon General’s Report on Health Promotion and Disease Preven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1979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6:26:20Z</dcterms:created>
  <dc:creator>Kristy</dc:creator>
  <dc:description>19.13a | Roughly half of premature mortality relates to behavior/lifestyle; only one-tenth relates to medical care</dc:description>
  <dc:language>en-US</dc:language>
  <cp:lastModifiedBy>Jia Yao</cp:lastModifiedBy>
  <dcterms:modified xsi:type="dcterms:W3CDTF">2013-09-06T15:41:22Z</dcterms:modified>
  <cp:revision>658</cp:revision>
  <dc:subject/>
  <dc:title>19.1a  Cost per Life Year Gained from Increases in Health Spending in the United States, by Age, 1960-20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9.1a  Cost per Life Year Gained from Increases in Health Spending in the United States, by Age, 1960-2000</vt:lpwstr>
  </property>
  <property fmtid="{D5CDD505-2E9C-101B-9397-08002B2CF9AE}" pid="3" name="SlideDescription">
    <vt:lpwstr>19.13a | Roughly half of premature mortality relates to behavior/lifestyle; only one-tenth relates to medical care</vt:lpwstr>
  </property>
</Properties>
</file>