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B51E-CAD7-4B77-A3B0-807914FCED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2 | INDEX OF AGE-STANDARDIZED DEATH RATE PER 100,000 (100=US) FOR MORTALITY AMENABLE TO HEALTH CARE (BOTH SEXES COMBINED) IN 19 OECD COUNTRIES, 2002-200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3E57-7F43-4501-A64A-DD6C11F067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4EA3-5857-4499-B1E4-F6509F464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A5E9-47C3-41C7-99A6-9EA84138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A6BB-5DAD-44FA-BE11-F302DEA27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38A5-404B-4843-825D-B98F1B17A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D5D9-BAE8-46F0-9EDA-87764F8D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AE1D-4206-40C7-B3EB-86E92B5E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14BF-B01A-4A65-AE84-F96761BC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AC4A-5CD1-4056-B054-1DB89A74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FBA4-5467-45DC-8F80-BD75DF97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4AAE-A2D2-4D46-8626-CD4396DF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A2D3-F447-4F66-AE42-75CDF32D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57B7-2AC4-4759-A162-3EBF576A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5387-7473-4D53-B656-5EF8FDABA1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12 | Compared to many other OECD countries, the U.S. has a higher death rate from conditions amenable to health 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244520"/>
            <a:ext cx="871200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914400" y="138276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ex (U.S. = 100) of standardized death rate per 100,000 (ages 0-74), 2002-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33520" y="5897520"/>
            <a:ext cx="853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Nolte E and CM McKee. Measuring the Health of Nations: Updating an Earl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alysis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8; 27(1):58–7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2 | Compared to many other OECD countries, the U.S. has a higher death rate from conditions amenable to health care</dc:description>
  <dc:language>en-US</dc:language>
  <cp:lastModifiedBy>Jia Yao</cp:lastModifiedBy>
  <dcterms:modified xsi:type="dcterms:W3CDTF">2013-09-06T15:41:20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2 | Compared to many other OECD countries, the U.S. has a higher death rate from conditions amenable to health care</vt:lpwstr>
  </property>
</Properties>
</file>