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90D-B076-4938-AD27-355B9BA0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94F-CB19-4149-B578-D08DD0D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FD8-D72C-4AB0-B1E5-9177C0E2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4FC-879B-4023-B3CF-A345B0DC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3CE-3BCB-499D-94D2-CFFC5DD5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836-CC20-45B6-B373-CDB7DCB5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4DF-B9F5-42B3-A5E1-4CC00611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E30-A21C-432E-BCD2-754D6497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CF9-AC6E-4CAB-80F1-3C5767EB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30C-3D92-4B25-8E6F-FC3112C7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9C0-29E4-49ED-9CD9-FD03CBD5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C1B-6453-4D8F-991D-7DF84B71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BAB0-C5A8-4BCF-87E8-1B865A39D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2560" y="228600"/>
            <a:ext cx="90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2Z</dcterms:modified>
  <cp:revision>39</cp:revision>
  <dc:subject/>
  <dc:title>PowerPoint Presentation</dc:title>
</cp:coreProperties>
</file>