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4DC-0A07-436E-B0E6-188DEA6D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F55-5FB8-4DB2-89EB-0E66CFF9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8BC-4D62-46B7-8C17-254494E7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4BD-1DDC-4AF2-B16E-722501FE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80A-E080-4C40-ACB1-BE813E2C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0F2-1606-46BF-B966-0CB2C26F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77D7-65A8-4E1B-B44D-7372B523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33E-8028-4F1D-975C-B1E3DDCA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2C50-CDA7-43D2-AB65-B022B66C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E30D-B20A-4F47-B771-98084D05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08B-F6CF-45B0-8C78-5B97E8ED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84B-07AE-4D8D-8BB0-93DC0849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1EDD-CD28-4526-89E5-2986FD40E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1Z</dcterms:modified>
  <cp:revision>39</cp:revision>
  <dc:subject/>
  <dc:title>PowerPoint Presentation</dc:title>
</cp:coreProperties>
</file>