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8834-B723-427C-A9D7-901FC345C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A | INDEX OF FIVE-YEAR CANCER SURVIVAL RATES (100=US) FOR SELECTED FEMALE CANCERS IN SELECTED INDUSTRIALIZED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BFB8-5C43-4A3F-877B-E68C1B826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357-0AF2-41CE-939E-64B48785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BBC-ED37-4D87-B5A1-3B5550D1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15C-37E1-4C4A-BCC0-02F00608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14F-AF0A-465C-9B7D-FCCAF634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887-9839-44E2-8990-B5D2EF69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F71-62D6-462B-9F5A-2817924D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B31-4639-4950-BF7B-1761F1B2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F85-C1DF-4FD9-9DB4-F2A36154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E6F-2B99-473C-86BD-D99E62B9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873-05B6-4141-B100-009F8045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60E-2D06-4460-849B-27D930D2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474-3A43-423B-A3BF-8DE5DB88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088D-A7B7-4FAA-A6C0-E30D70D71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a | The U.S. leads the world in female cancer survival rates for the leading causes of cancer de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530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1371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ve-Year Female Cancer Survival Rate Indexes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3520" y="522756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a | The U.S. leads the world in female cancer survival rates for the leading causes of cancer deaths</dc:description>
  <dc:language>en-US</dc:language>
  <cp:lastModifiedBy>Jia Yao</cp:lastModifiedBy>
  <dcterms:modified xsi:type="dcterms:W3CDTF">2013-09-06T15:41:1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a | The U.S. leads the world in female cancer survival rates for the leading causes of cancer deaths</vt:lpwstr>
  </property>
</Properties>
</file>