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BB98-5EC0-41CE-9AEC-68B5E734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4E5A-EC51-48B9-8604-9677399A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C53C-8447-4577-83D4-E97CEB64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EB54-65EE-46A8-89E1-24447312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0302-83A9-4704-8C9E-714E709F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946-18AD-47A1-983D-10EF77DC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F1BC-4813-43B2-A432-775A9B2E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A7AB-9FDE-4E80-BB04-E7CC6653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D510-6D7E-4DF5-AFF1-312AC866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A555-C842-40AF-B45F-383067D9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374F-8A42-4CB0-9F91-20305B33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A9F0-3FA8-484A-9763-2694FA93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A98D-CEAF-4874-8D1C-7ED40DAE1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66920" y="0"/>
            <a:ext cx="461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9Z</dcterms:modified>
  <cp:revision>38</cp:revision>
  <dc:subject/>
  <dc:title>PowerPoint Presentation</dc:title>
</cp:coreProperties>
</file>