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80FD-5D10-4735-806E-E418B1D01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0 | INFANT MORTALITY INDEX (US=100) BY NUMBER OF WEEKS OF GEST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FA30-D018-470B-B3B2-79A778BB9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073F-5E91-4B78-8DA9-FE3C587B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72D-B8F5-45B8-90E3-779E5357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A0A-445F-4B83-87CF-A01D57CF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46C-759E-4C8F-9FFE-7B88AC0B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5F96-7F53-4CF9-AB17-FB60BD10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38BE-5506-4F45-A1D2-C62A44EF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76A8-A41C-4109-A9AD-A984F8D7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367-ABBE-4DDC-8C22-697D4E3E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8F2-781F-4A24-801A-D7471706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D86A-73C3-4732-88F6-1F929779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57E-E802-4FCB-ADD3-0E6B6366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C5A-242F-48FA-867C-AACB66DA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F55A-BF8F-4D8C-AC9F-C0829AB7B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0 | Except for Sweden and Norway, the U.S. generally leads to world in saving the lives of premature inf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244520"/>
            <a:ext cx="8483760" cy="4368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00040" y="537516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e: countries listed (left to right) from best to worst for infants with the shortest gestation perio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209680" y="14479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ant mortality index (U.S. = 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00040" y="5764320"/>
            <a:ext cx="796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MacDorman MS and TJ Mathews. Behind International Rankings of Infa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tality: How the U.S. Compares with Europ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ional Center for Health Statis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ata Brie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23. Hyattsville MD. National Center for Health Statistics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0 | Except for Sweden and Norway, the U.S. generally leads to world in saving the lives of premature infants</dc:description>
  <dc:language>en-US</dc:language>
  <cp:lastModifiedBy>Jia Yao</cp:lastModifiedBy>
  <dcterms:modified xsi:type="dcterms:W3CDTF">2013-09-06T15:41:1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0 | Except for Sweden and Norway, the U.S. generally leads to world in saving the lives of premature infants</vt:lpwstr>
  </property>
</Properties>
</file>