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884-04C4-4A3C-A90A-BD298682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CF4-D8F4-45B4-BD4D-FC126134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FF2-B858-4BEE-9F94-0521DD17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7AE-0030-4D57-90D1-B70C4E66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591-8F4A-4459-AE02-70B29E3B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A90-A999-49DC-8CED-7E88D0BA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E61-1C1A-42D4-9418-6A21FC47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2DB-43E8-4C5F-A635-9081D8C9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DF1-8410-4D52-9C81-EFE76838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4EC-62DB-4BF1-90C2-8513A186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B12-121B-4B3D-BC59-A4353761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0E9-2F45-48FB-8126-1A56D1DF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8030-E872-424C-9E2D-D07591716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6920" y="0"/>
            <a:ext cx="461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9Z</dcterms:modified>
  <cp:revision>38</cp:revision>
  <dc:subject/>
  <dc:title>PowerPoint Presentation</dc:title>
</cp:coreProperties>
</file>