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960D-047A-4D6E-A2EB-FC1A80E46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0 | INFANT MORTALITY INDEX (US=100) BY NUMBER OF WEEKS OF GEST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D3C0-8747-4279-8748-6DD223899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DB2-8B6F-4AEB-B1AA-446CC6C8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AC3-F001-4FAB-87EE-A132AE13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F44-C255-42D5-9AE4-0A89FD24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755B-0E5F-42A1-81E2-0F14995C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2C1F-5ED4-4984-9B71-D595A3DA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949-1360-45EE-8B25-5AB10037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BED6-339A-4E40-B913-AE629D33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233-D0FC-4F59-9512-582EA12D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8998-563A-4D50-A2D9-A88ACCBB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C90-1A92-4E9C-8EDA-491791DF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3EE2-3427-4593-89B8-A5668A49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228-13B5-4B49-BA0A-F55BC24D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290F-5C25-431C-A24B-6ABF51B7F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0 | Except for Sweden and Norway, the U.S. generally leads to world in saving the lives of premature inf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244520"/>
            <a:ext cx="8483760" cy="4368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00040" y="537516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e: countries listed (left to right) from best to worst for infants with the shortest gestation perio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209680" y="14479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ant mortality index (U.S. = 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00040" y="5764320"/>
            <a:ext cx="796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MacDorman MS and TJ Mathews. Behind International Rankings of Infa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tality: How the U.S. Compares with Europ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ional Center for Health Statis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ata Brie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23. Hyattsville MD. National Center for Health Statistics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0 | Except for Sweden and Norway, the U.S. generally leads to world in saving the lives of premature infants</dc:description>
  <dc:language>en-US</dc:language>
  <cp:lastModifiedBy>Jia Yao</cp:lastModifiedBy>
  <dcterms:modified xsi:type="dcterms:W3CDTF">2013-09-06T15:41:1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0 | Except for Sweden and Norway, the U.S. generally leads to world in saving the lives of premature infants</vt:lpwstr>
  </property>
</Properties>
</file>