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9E29-F1F2-4B3C-B457-2B2E88A1B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A | LIFE EXPECTANCY AT BIRTH WITH AND WITHOUT DEATHS RELATED TO VIOL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E796-D759-4CF5-A9DC-7B7A81573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E81-B50C-4E3D-876F-49455A9C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528-953B-4CA9-A889-230FEA19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BB8-FCEC-4BCA-B7AC-B15E1030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D98-2223-4B32-A1F2-25C3BFFC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8C8-DED4-45DC-AB94-63BC8CC6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678-659E-4F96-9757-650B7D03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388-E7F6-49DC-B167-C4700A4B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A06-10DB-4D39-A76B-7758C8CC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0FA-B5CF-4BF4-AC28-FA788F68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04A-F672-4BF8-BF2F-9EE7D7D8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E3D-D099-4A50-88BD-5AE88C72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1F0-CAC7-4DF9-BFF1-5192A83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394F-99B1-46D7-B80D-FFCB34998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a | Once higher-than-average U.S. rates of violent deaths have been taken into account, the U.S. leads the world in life expect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5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588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Life Expectancy at Birth, 1980-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61880" y="541008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47840" y="44197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Countries are ordered by standardized life expectancy derived by assigning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the mean OECD fatal injury rate for the period shown; figures in parentheses denote ranking on unstandardized life expectancy at bir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a | Once higher-than-average U.S. rates of violent deaths have been taken into account, the U.S. leads the world in life expectancy</dc:description>
  <dc:language>en-US</dc:language>
  <cp:lastModifiedBy>Jia Yao</cp:lastModifiedBy>
  <dcterms:modified xsi:type="dcterms:W3CDTF">2013-09-06T15:41:1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a | Once higher-than-average U.S. rates of violent deaths have been taken into account, the U.S. leads the world in life expectancy</vt:lpwstr>
  </property>
</Properties>
</file>