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5AB7-2F4F-480A-97A7-33C6239D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8810-F7F3-4CF7-9284-AA8FE4DE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1051-2EE6-406B-AC49-23AC6FCA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2112-7ACB-4C27-9136-F6DFEC81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ED4E-0613-467C-B78E-2CEBBC6D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FF85-32ED-44C3-A9F2-645F808B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2549-A61E-4F69-BCDE-EEBEA27A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0FA9-9FEB-49F9-A50B-E4D8A9C0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8E74-917C-4D63-8A21-4A3CB7E6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FED0-1E03-4253-8D53-DFE3E33A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A1E9-85DB-4285-B90B-86C16E3C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3E96-35AE-4BCC-BECF-CC46EA4C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4ED7-9E7D-4E4A-9535-E68368F4C8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480" y="380880"/>
            <a:ext cx="91310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36Z</dcterms:modified>
  <cp:revision>39</cp:revision>
  <dc:subject/>
  <dc:title>PowerPoint Presentation</dc:title>
</cp:coreProperties>
</file>