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AF66-24E6-4A7D-A1FD-5F3E6E255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A | COST OF MEDICAL TORT SYSTEM RELATIVE TO NATIONAL HEALTH EXPENDITURES, 20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C8E08-4C83-4722-B0D2-BF6EACB6C4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0EB-7A68-4B80-89F0-91CCD304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F6F8-9484-40A9-91DD-B8D7925AC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C73-FD71-4700-9F3C-5246216C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86BF-C939-4192-8326-EF696508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9954-09E7-40CD-AB25-6B851844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D51-415E-4F23-BB13-59A18053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180-C934-4C40-8F71-FA92E907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974-266A-42A7-9A74-FF0AC0AE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E33-974D-428F-B58C-8B526039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175-BD8F-4330-8FB6-F930AF38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18C7-FB88-4EC0-860F-570A6B42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CCED-8069-4644-A895-59729A0B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57E4-0411-4127-9877-151D8BA53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a | The direct and indirect costs of the medical tort system amount to about 6 dollars for every 100 dollars of health spen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nual cost per $100 of national health expenditures (200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585360" y="5759280"/>
            <a:ext cx="843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onover CJ with EP Zeit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 Services Regulation Working Paper No. MTS-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ushealthpolicygateway.files.wordpress.com/2009/06/mts1-medicaltortsyste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c (accessed August 30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a | The direct and indirect costs of the medical tort system amount to about 6 dollars for every 100 dollars of health spending</dc:description>
  <dc:language>en-US</dc:language>
  <cp:lastModifiedBy>Jia Yao</cp:lastModifiedBy>
  <dcterms:modified xsi:type="dcterms:W3CDTF">2013-09-06T15:41:05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a | The direct and indirect costs of the medical tort system amount to about 6 dollars for every 100 dollars of health spending</vt:lpwstr>
  </property>
</Properties>
</file>