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722-9771-4E95-BEC2-09EF240B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329-3382-4ACF-9308-B161194D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466F-F6C1-4231-829C-007B36B7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A8A-8FF9-45D6-9562-78A07105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FCD8-43EB-48C3-AC06-799B96F3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439-7D63-4A10-BF6B-2D750CEC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6AD1-3262-4D8B-BB04-06070567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08E9-F8B1-4017-B299-46EE90E8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7F75-D454-476D-B210-E06AB9F7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C3DA-503B-4E86-98E9-213AE15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656B-53A8-4FD7-AB02-79290686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E0A2-249B-4C7D-B798-5BE8B27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68AB-9F1A-4AC3-B29A-F139DEE7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12840" y="54000"/>
            <a:ext cx="860256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5Z</dcterms:modified>
  <cp:revision>40</cp:revision>
  <dc:subject/>
  <dc:title>PowerPoint Presentation</dc:title>
</cp:coreProperties>
</file>