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5EEE-19EF-4700-93BC-07D808B49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8B | MEDICAL MALPRACTICE PAYMENTS RELATIVE TO TOTAL NHE AND EXPENDITURES ON PHYSICIAN SERVIC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CDE7-544A-43A8-A110-3A99BF429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7E32-25AF-4178-96DA-F67A126F2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0259-E988-4FBD-9607-485FE789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3F0-D913-4648-A10E-E17509BD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5ED9-31A3-44EF-AA29-EEFA0744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8434-14AD-4CFB-A15F-C9BB4B72D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3FC9-282C-4905-93D3-AA1F4052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8019-4887-4C9F-AB6E-4048ADC2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9430-0334-4305-9C47-F7AC830F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960-1653-4B9D-B6C3-6D8D95C3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687-3376-43B9-94BC-26844B7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17C-01E5-445E-8E83-B5AFF217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B8F-F65A-49CD-835A-92989836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7FC7-DDDF-4BD7-9B2D-89E9BBC6A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9.8b | Medical liability payments as a share of total or physician spending peaked in the 1970’s and have declined through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533520" y="1600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dical Malpractice Payments per $100 of Expendi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8b | Medical liability payments as a share of total or physician spending peaked in the 1970’s and have declined through 2009</dc:description>
  <dc:language>en-US</dc:language>
  <cp:lastModifiedBy>Jia Yao</cp:lastModifiedBy>
  <dcterms:modified xsi:type="dcterms:W3CDTF">2013-09-06T15:41:07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8b | Medical liability payments as a share of total or physician spending peaked in the 1970’s and have declined through 2009</vt:lpwstr>
  </property>
</Properties>
</file>