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0CB-AB47-400B-B3C7-C750DE18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F38-6B95-4A7B-9C77-CD6DF84C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B83-BFF8-4AA6-BA73-E9179887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2A3-B84F-4A5A-B7F9-D284DE22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DD9-ADD7-4818-9586-2536D607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732-4F3D-4CCC-ADBD-417C917F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C1D-3685-427C-9F06-21DCF24C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6C1-A127-4F4C-9FE3-A3B4CD2B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D60-DAD4-41A0-A5E4-38590A77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307-ED76-4C02-AE2F-0C5AFAD7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5EB-AC38-4FDC-9168-3938DEA5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243-F889-426C-93B4-F19EB72C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8D5B-2DA7-4D06-83BB-CF3B75589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1Z</dcterms:modified>
  <cp:revision>39</cp:revision>
  <dc:subject/>
  <dc:title>PowerPoint Presentation</dc:title>
</cp:coreProperties>
</file>