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66CD-7044-49DD-B059-53769F895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B | RATIO OF NURSES TO PRACTICING PHYSICIANS IN SELECTED INDUSTRIALIZED COUNTRIE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FA10-D352-41CA-803A-D22303B63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A55-F022-4184-80E2-FC339140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ABD-35DD-4AF0-B243-A0B3D5E7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A29-F430-4AC8-B9F3-2CB12711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C29-3054-482D-9219-C1A797AF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FD9-0F97-43A9-87DF-28A178AB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D99-DAAA-4B69-B051-23F0D0D5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A7A-D6DA-4479-B1C3-B4FD3D60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964-0219-482B-809E-B7545580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B74-6031-40A6-AB97-2A9160A2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BBE-CAB8-4222-843A-A2FA1A1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DB9-9ADD-4CC6-BA20-AC6F74F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648-93EC-4AFD-809E-740272A6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12EA-A99D-44B9-A47A-2C88DF9FF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6b | The ratio of practicing nurses to doctors in the U.S. is comparable to figures in other G7 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63568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practicing nurses to practicing physician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b | The ratio of practicing nurses to doctors in the U.S. is comparable to figures in other G7 nations</dc:description>
  <dc:language>en-US</dc:language>
  <cp:lastModifiedBy>Jia Yao</cp:lastModifiedBy>
  <dcterms:modified xsi:type="dcterms:W3CDTF">2013-09-06T15:40:59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b | The ratio of practicing nurses to doctors in the U.S. is comparable to figures in other G7 nations</vt:lpwstr>
  </property>
</Properties>
</file>