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29D-8DC2-4D06-B96A-7D4F9F74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B5C-B8B7-4AEB-B280-2561B809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B96-D77F-4D81-B8C9-2CACC4A4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52F-E247-46C7-92E5-2187FA02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F0B-614A-4B73-B31A-A962011E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6E4-C1A4-4769-8A29-53D26BA7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A1E6-F9C3-415B-92B1-50CB9215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8F0-1328-4C48-9093-FADBDD73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FAD2-CD3F-4F32-8958-E913CEC5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BB5-5D62-49A5-B495-5AD2A753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DB0-BA9A-4DF2-9F92-747F49CD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73F3-A326-461D-9572-376BB18D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1770-5943-49DF-8CBE-0D8144899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9009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8Z</dcterms:modified>
  <cp:revision>37</cp:revision>
  <dc:subject/>
  <dc:title>PowerPoint Presentation</dc:title>
</cp:coreProperties>
</file>