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8C3-4A32-4F4F-893D-5478AAD8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700-1B11-4973-9193-206B1BE4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0C2-6DBC-409D-9C41-B99CE290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D83-AB40-4BA2-8F73-05A936E5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934-179C-4EFA-A2D2-F59A9AAC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CF4-1D72-44BC-BFD7-43928100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451-CD66-42E3-B82E-B1221665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BF1-6587-4B9E-979E-8378248F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813-6074-417C-B8C7-3CD96616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CCC-545C-4F1F-BE43-AA7FD08A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E7A-14A9-4E2F-98C5-061E480F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FF1-DD78-463B-BC56-E2FFDB50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5A04-0E94-42A4-8341-764BF54D2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480" y="1066680"/>
            <a:ext cx="9077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6Z</dcterms:modified>
  <cp:revision>37</cp:revision>
  <dc:subject/>
  <dc:title>PowerPoint Presentation</dc:title>
</cp:coreProperties>
</file>