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AFA-7B7F-4A4B-861C-561C5B6A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BF2-D11A-4F71-B6DE-B5222A20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FE4-7178-40AC-BB58-1A19EEC8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D5B-138B-4039-BF32-893CFBF7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5EB-5CE2-49BA-A7D3-BD3D2CF9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866-455A-4A99-8FCA-CCA277A9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872-E304-47B4-A424-CE190FE5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580-0C28-468F-A161-95AF8D0E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2C6-136B-4FCC-BF6D-F821756D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10C-F3FF-4A43-916E-D49E0BF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531-89E4-484C-95DC-A43AF21F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FF6-EC1E-423A-B930-B90F8CD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A735-72A1-45FC-AFD9-049E15460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317600"/>
            <a:ext cx="90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7Z</dcterms:modified>
  <cp:revision>37</cp:revision>
  <dc:subject/>
  <dc:title>PowerPoint Presentation</dc:title>
</cp:coreProperties>
</file>