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EE0C-BA63-4630-9321-BA1BCD75A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A | PER CAPITA DOCTOR VISITS, DENTIST VISITS, ACUTE HOSPITAL DAYS AND PHARMACEUTICAL GRAMS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8516-3397-4A83-A4F5-E47FCFEA6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C75-1DAB-4A28-BC5C-D0B570E2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2F1-9F5E-4675-953B-F9BD7489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152-BFFD-4435-8378-3DDE3EED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323-6D1A-4B5B-9DB3-CF5B41E2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4A9-6D71-419B-B8CF-7386488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5CF-C673-430F-B3F3-1FA2B1A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A91-039A-405D-B435-F01A687D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538-E12C-4320-A0C8-1F25B802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501-2953-4D23-BA28-D3F4CFC9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F35-9934-4D56-9D12-EC4D1E86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19F-1FAB-4AD7-9B1B-F14F54B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FA5-0E58-4B25-8831-21B8F2B1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AEC5-1E50-401A-A205-D75AD283D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a | Relative to G7, the U.S. generally has lower utilization of acute care services such as doctor and hospital care, but not pharmaceut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4479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15320" y="585144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igures for pharmaceuticals are fo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a | Relative to G7, the U.S. generally has lower utilization of acute care services such as doctor and hospital care, but not pharmaceuticals</dc:description>
  <dc:language>en-US</dc:language>
  <cp:lastModifiedBy>Jia Yao</cp:lastModifiedBy>
  <dcterms:modified xsi:type="dcterms:W3CDTF">2013-09-06T15:40:5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a | Relative to G7, the U.S. generally has lower utilization of acute care services such as doctor and hospital care, but not pharmaceuticals</vt:lpwstr>
  </property>
</Properties>
</file>