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B380-A957-431B-A5DE-DDD74E047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B | CAT SCANNERS PER MILLION, MRI UNITS PER MILLION, PTCA PER 100,000 AND CABGS PER 100,000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ABCA-DE3B-40BF-B34E-75D0B39C6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EC0-0E56-4D04-A0C5-1ABAB09B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539-89BF-470C-B958-29EFBC45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73B-E40A-4CA7-8A88-68D2494D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C77-AF23-42D8-9E34-2CECD46B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2BF-351C-47D9-AF33-203A7F2C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B02-09F1-43BF-8473-11D62896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DC5-1B1F-493E-AC77-57E167B4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D86-0D88-4424-9B2D-42AF479A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5CA-8B4A-4FC0-8E31-C73A74C5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BB2-018B-41D6-8312-94F374A5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96A-EC25-4E40-8163-6A27FE1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69E-681A-4B89-A72B-43398648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F904-F7B9-42C0-88D5-531855203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b | With the exception of Japan and Germany, U.S. use of technology generally is much higher than among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b | With the exception of Japan and Germany, U.S. use of technology generally is much higher than among other G7 nations</dc:description>
  <dc:language>en-US</dc:language>
  <cp:lastModifiedBy>Jia Yao</cp:lastModifiedBy>
  <dcterms:modified xsi:type="dcterms:W3CDTF">2013-09-06T15:40:5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b | With the exception of Japan and Germany, U.S. use of technology generally is much higher than among other G7 nations</vt:lpwstr>
  </property>
</Properties>
</file>