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85A4-7EF4-4279-9FD0-A5443E9B0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A | PER CAPITA GDP AND HEALTH EXPENDITURES, OECD COUNTRIES, 20 LARGEST OECD COUNTRI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C84D-532F-4115-B765-197893D0D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C8C-9D3C-47EC-BA43-5050FFCF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C70-B0A1-4B61-B022-D15C8AC7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F9B-1211-44D5-9E27-6DA6B59D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C6E-DD17-4343-9CF6-E6AF0E5E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E7F-3E95-447A-8A0E-D306635E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778-EBBD-43F1-A7B0-92A14237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0BD-4D4F-4048-9FF6-FADFB12B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BFF-A389-4600-8D69-B1284D69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E11-AD42-413A-8E95-79C55828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AE0-E5BE-403E-9994-9587D9DE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DE8-191D-4C61-AEC3-7C5639B8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004-8406-47B9-A3D2-9E257F30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959D-27AA-4DC3-AAB2-125037A8E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a | The conventional wisdom is that U.S. health spending is far above its expected level given the nation’s per person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320840"/>
            <a:ext cx="886464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22960" y="5867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DP per person (U.S.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a | The conventional wisdom is that U.S. health spending is far above its expected level given the nation’s per person GDP </dc:description>
  <dc:language>en-US</dc:language>
  <cp:lastModifiedBy>Jia Yao</cp:lastModifiedBy>
  <dcterms:modified xsi:type="dcterms:W3CDTF">2013-09-06T15:40:4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a | The conventional wisdom is that U.S. health spending is far above its expected level given the nation’s per person GDP </vt:lpwstr>
  </property>
</Properties>
</file>