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6518-1FE2-483D-8537-659F192FE9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3B | COMPONENTS OF ANNUAL MEDICARE SPENDING PER BENEFICIARY, BY QUINTILE OF CARE INTENSITY, ???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D790-D3BB-470C-B8EC-E05F254C93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EAA2-53A8-45F8-9B87-7D019FC3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4E47-D1E1-4E5D-899F-97735994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4FD1-B986-45B4-9547-149D9EDF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CCE1-EA2C-45C9-B599-925D961A7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A553-55A1-408D-8296-0FADDA0E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58C4-259B-46DF-8264-125EA0A6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398D-B3C8-4FC8-B51A-11DF93E7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CA34-6CAE-46BC-A19E-1128B569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372D-8CDE-4695-82DA-F8439D77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0965-0A96-46B8-88CF-011F3D26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D80A-ABE8-434D-B0A4-CA4C3237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8B12-0F8D-456B-B51F-017E331B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D1D2-0A93-4C57-A20E-AA3D1B1511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3b |  Differences in income, race or health factors explain less than half of the spending differences across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4216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40160" y="1295280"/>
            <a:ext cx="68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nual per capita Medicare spending (dollar difference from Quintile 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3301200" y="363852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intile of care intens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533520" y="4037040"/>
            <a:ext cx="835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vertical bars show the proportion of the difference in spending between regions i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of the four top care-intensity quintiles and the regions in the lowest quintile th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explained by differences in patients' race, income, health factors (self-report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, presence or absence of diabetes, blood pressure, body-mass index, and smok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story), and regional factors. All models control for age, sex, and urban or rural reside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556560" y="5791320"/>
            <a:ext cx="795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Sutherland JM, ES Fisher and JS Skinner. Getting Past Denial—The High C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Health Care in the United States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ew England Journal of Medicin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61:1227–3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3b |  Differences in income, race or health factors explain less than half of the spending differences across regions</dc:description>
  <dc:language>en-US</dc:language>
  <cp:lastModifiedBy>Jia Yao</cp:lastModifiedBy>
  <dcterms:modified xsi:type="dcterms:W3CDTF">2013-09-06T15:40:45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3b |  Differences in income, race or health factors explain less than half of the spending differences across regions</vt:lpwstr>
  </property>
</Properties>
</file>