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4E28-126B-4F36-8C5B-B8BE6C4A0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596E-0B43-4DA7-865F-EDB784365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EE1D-947F-4C29-AB57-B65D47D56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4D49-4594-48A1-9C7F-3D658886B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0764-A1E2-4E78-BE40-B3C0CA257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E0FD-46E9-4EDE-9205-9262A59D1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2637-537F-41D6-9490-5BD647677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E573-0285-499C-B09D-05F0C3CF1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79D6-DA42-40D6-AD7D-66411F17C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D772-DF70-4683-8939-DACE01DC4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F76B-D040-4530-B08F-C58F37D2F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8AF5-9417-4407-93F9-B535713EF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27652-9595-4911-9F7F-A34F2C007D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152280" y="52560"/>
            <a:ext cx="8907480" cy="68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1:23Z</dcterms:modified>
  <cp:revision>37</cp:revision>
  <dc:subject/>
  <dc:title>PowerPoint Presentation</dc:title>
</cp:coreProperties>
</file>