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3D21-6152-47C5-8E49-53945FFB81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2A | YEARS OF POTENTIAL LIFE LOST BEFORE AGE 70 PER 100,000 POPULATION VS. HEALTH SPENDING PER PERSON IN SELECTED INDUSTRIALIZED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C567-08E7-4091-8E48-BA2699B57E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6ACC-16F4-4DE1-B49C-13DDD556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984E-DC7E-498E-965D-124AA086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B6B4-AC92-4170-BD76-6B7839378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2959-514E-49F4-882B-FBE8FE39A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DBFC-19D3-4B1C-8D2D-897210E5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D6E0-680F-4480-A922-95C70AE5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B5F3-B92D-45FE-9A75-630EAC46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3F02-2A17-4173-982B-6A5BE513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5614-0344-486F-A43B-FF07435C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4541-9819-4590-B3A4-900EDAB2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831C-E407-416D-8CC7-9314B7DD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A0CA-9F48-4937-8F52-FFCD1EB2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745D-8319-4915-BC68-20E4881FA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2a | Years lost due to premature death are much higher in the U.S. than most other industrialized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01520" y="1549440"/>
            <a:ext cx="88646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914400" y="5780160"/>
            <a:ext cx="69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pending per person (U.S. purchasing power parity, 2006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2a | Years lost due to premature death are much higher in the U.S. than most other industrialized nations</dc:description>
  <dc:language>en-US</dc:language>
  <cp:lastModifiedBy>Jia Yao</cp:lastModifiedBy>
  <dcterms:modified xsi:type="dcterms:W3CDTF">2013-09-06T15:40:38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2a | Years lost due to premature death are much higher in the U.S. than most other industrialized nations</vt:lpwstr>
  </property>
</Properties>
</file>