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4DA7-184C-4BBF-9B42-9F2BB9D3F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B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3A13-241E-4BDD-B2D8-C64548CFD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22B-B5DD-417E-BFD2-F7257A1C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376-7D7F-447E-9930-6D1BA9BD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A46-C227-4D20-8DBE-0A7B505D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246-F1E3-484D-A571-05B092D7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B6C-7756-4A10-B7AA-4D6BAC7D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7C2-B354-49D2-B1A5-9F57EE3F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CB7-953B-4E4D-AE10-8914C40C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A33-BA5F-4513-B736-ABDA2816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486-D6FF-448C-832E-F20AAD07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C9A-7EDB-4AEF-B54F-1464E950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B9E-9D40-432D-ADB5-8BE00BAA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AD6-B636-426A-A21B-9A91814E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31C4-91F6-409C-BDCC-6C71229C3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b | On average, increases in U.S. health spending appear to have provided reasonable value for the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20800" y="137160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25680" y="602928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A Rosen and S Vijan. The Value of Medical Spending in the Uni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, 1960-2000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; 355(9):920–2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0440" y="5105520"/>
            <a:ext cx="78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pending per year of life gained is defined by the change in spending 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decade divided by the change over the decade in expected years of life at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s sh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b | On average, increases in U.S. health spending appear to have provided reasonable value for the money</dc:description>
  <dc:language>en-US</dc:language>
  <cp:lastModifiedBy>Jia Yao</cp:lastModifiedBy>
  <dcterms:modified xsi:type="dcterms:W3CDTF">2013-09-06T15:40:3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b | On average, increases in U.S. health spending appear to have provided reasonable value for the money</vt:lpwstr>
  </property>
</Properties>
</file>