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E4D-716A-461E-8760-ECEA1F23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010-C694-49CA-A515-1F3040FF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B8D-204A-4274-AE65-1B98FF91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6A8-82F5-4690-AD5F-A901D346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BE0-63A6-42A4-A8C0-6973C7EE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0AF-090A-4026-BDCE-D120B498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BF1-3781-49C3-A9F6-BAFCAE93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459-032D-4362-8C8A-4039BD32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AF3-79C6-4FDB-860F-CC9C5212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23D-6548-474D-A691-0EA19C3D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965-1F6F-45B1-8AF5-C4B95D9D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960-72BA-404F-9234-246C6A28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3940-6A1C-44B9-9F4F-8DAD40294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3760" y="152280"/>
            <a:ext cx="90964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8Z</dcterms:modified>
  <cp:revision>37</cp:revision>
  <dc:subject/>
  <dc:title>PowerPoint Presentation</dc:title>
</cp:coreProperties>
</file>