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A931-C803-4C4A-8C62-07D3BD4AC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B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135A-E3B0-4366-BDE3-B28705007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4DFA-E834-4604-B2A2-D2AC2802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027-C4D5-4DC0-B942-E1982918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1F6E-1A70-4B86-92B8-55F1CF4D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2BE0-02DE-410C-86FF-3BB56A0A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3B8-2774-42CA-98A0-666DF8FC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2783-72F4-4D84-AC07-41BA1349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CBF-1996-4287-8131-A866FAE2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B9DE-CEEA-4E92-93AE-B8D6D032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4729-4CAC-47A1-B648-D068FCD4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CAE-1D64-4F8A-ABAD-4395329E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4FAA-45D5-44AE-994D-355D97B8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4F7-9D4E-4216-8B79-B5FBFB44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F327-2333-4700-A955-3AA304291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1b | On average, increases in U.S. health spending appear to have provided reasonable value for the mon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20800" y="137160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25680" y="6029280"/>
            <a:ext cx="80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A Rosen and S Vijan. The Value of Medical Spending in the Uni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, 1960-2000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e New England Journal of Medici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; 355(9):920–2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40440" y="5105520"/>
            <a:ext cx="786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spending per year of life gained is defined by the change in spending o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decade divided by the change over the decade in expected years of life at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es sh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b | On average, increases in U.S. health spending appear to have provided reasonable value for the money</dc:description>
  <dc:language>en-US</dc:language>
  <cp:lastModifiedBy>Jia Yao</cp:lastModifiedBy>
  <dcterms:modified xsi:type="dcterms:W3CDTF">2013-09-06T15:40:36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b | On average, increases in U.S. health spending appear to have provided reasonable value for the money</vt:lpwstr>
  </property>
</Properties>
</file>