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A12-E863-40EC-9DF8-12636727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819-68A1-40BE-A3D7-44D28D2A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CD7-3E58-4A8F-B9B0-0BECC5E5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C9BB-918B-4982-B3E8-DAC0A761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FA09-7FFF-4DFD-AA44-0EC82167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A124-7363-453E-87A4-2331DFC3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908D-D771-42E4-8ACC-1F65B5C9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5A2-CFE0-47E1-BAA2-A55188F3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FEF-5B86-4BA6-BC89-CDFE7CE2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F82-1AA7-4967-8094-91348828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EEA7-34E0-4135-B9E6-D89C248D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A928-A581-48BF-A4BE-6F969DF0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AEC8-F475-4C3B-B2A6-E16F5E8F3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3760" y="152280"/>
            <a:ext cx="909648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8Z</dcterms:modified>
  <cp:revision>37</cp:revision>
  <dc:subject/>
  <dc:title>PowerPoint Presentation</dc:title>
</cp:coreProperties>
</file>