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0150-35F7-453C-931E-B2B987747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A | COST PER LIFE YEAR AND "QUALITY-ADJUSTED" LIFE YEAR GAINED FROM INCREASED HEALTH SPENDING IN THE UNITED STATES, 1987-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A8AB-E200-4439-8563-4BA5BB7E3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72E7-1934-4FD5-9370-637FA7BD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1B3-A3D7-4F8C-9A91-E4AB14B6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EEE-B76D-42DB-A0FC-7766E2E9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7AE4-C779-44F1-B00A-79DC7A46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37E9-CE9D-4D87-8390-368EA07FD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F56-96CE-4D09-8B9D-8E017496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72C-AD11-4EF8-B896-D2CFA160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256F-28A7-4FBF-A4A2-F264BECA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39EE-B4B0-43B3-9E83-276F3540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6BFA-6489-47EF-B6C8-C87F3F65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4415-6CC8-43DA-B692-51D9486E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188D-BF63-4003-B07B-6CE23A89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52C5-0AFB-45E7-B879-90E883388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9.1a |  Even after accounting for the resources spent to add a year of healthy life, U.S. health spending appears to provide good value for mone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705600" y="1600200"/>
            <a:ext cx="48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per life year gained, 1987-2000 (2000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531720" y="5759280"/>
            <a:ext cx="851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 Health Report Card for the Nation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HE Presentation. June 6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6. http://healtheconomics.us/conference/2006/plenaries/powerpoint/cutlermadis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 (accessed August 18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a |  Even after accounting for the resources spent to add a year of healthy life, U.S. health spending appears to provide good value for money</dc:description>
  <dc:language>en-US</dc:language>
  <cp:lastModifiedBy>Jia Yao</cp:lastModifiedBy>
  <dcterms:modified xsi:type="dcterms:W3CDTF">2013-09-06T15:40:3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a |  Even after accounting for the resources spent to add a year of healthy life, U.S. health spending appears to provide good value for money</vt:lpwstr>
  </property>
</Properties>
</file>