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AE70-DCDB-4910-A305-143E8A21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318-3720-4676-9CCD-0C3E2DEB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762-D35B-4F6E-8A27-EDC36B71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16F-A642-4ECC-ACD7-32DC923D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7A2D-7463-4F07-8598-653AEBF6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34CF-38E4-465D-9F77-D42AD202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FE64-D559-441A-BDB2-74CA95BB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100C-E1F8-4F29-8EB7-B87EDC61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8C86-F7EF-4BA7-8260-D30E7154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BD69-76E6-40D8-9428-51AEC3A5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7D47-CF31-4502-A52A-E2F1F06A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CB24-6DBF-4225-BFCB-63435DB3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B97C-4B36-48B4-AC1B-828AC58A0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8360"/>
            <a:ext cx="9144000" cy="64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17Z</dcterms:modified>
  <cp:revision>37</cp:revision>
  <dc:subject/>
  <dc:title>PowerPoint Presentation</dc:title>
</cp:coreProperties>
</file>